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2F9-BD4C-4BA9-8A97-BD845273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438-6A15-4A9E-9D25-F599CC60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ify roster accuracy go to http://rusticello.mped.org and login using your trainer ID and password.  Click on the roster component on the left-hand side then click on the session whose rosters you want to check.  You will see the roster details page including the names and e-mail addresses of everyone who has sucessfully rostered into your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0B65-2430-41EC-95B9-1A32C9E2A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BE51-B3DD-4201-9DA9-B3C65853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AB9D-9B7B-4838-8600-004201E3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50B9-E47D-488E-8455-036077F7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C06A-D6D2-43CD-A259-902E9808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A2D7-F3B7-46A3-928B-A037A148B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FE2-56DF-42C0-9E3E-96D2296A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E7B-91E7-4967-ABE4-A2FC204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369-1267-404F-980A-A5E35121C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C0D-C315-4B4D-8EAC-221D62D0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896F-0336-452D-B936-312BC93E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66B-90DD-4A49-B230-4A00B1E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D98-0E7A-49E1-9D8B-EF7E434C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8C7-1560-4585-8EA5-6A64B93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F0B-5513-42E4-913B-9B5C679C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6F6-D1BB-4A3F-BC0C-51813327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14F-E032-445A-A6E5-B800FE9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871-A8FB-4338-8A8C-529F9B5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E7AD-DA64-45DE-A731-AB487795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276720" y="411480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b4b0d"/>
                </a:solidFill>
                <a:latin typeface="Arial"/>
              </a:rPr>
              <a:t>A Field Trainer’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346560" y="3346560"/>
            <a:ext cx="5273640" cy="841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19720" y="4724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4b0d"/>
                </a:solidFill>
                <a:latin typeface="Arial"/>
              </a:rPr>
              <a:t>(Updated 3/5/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17616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opyright © 2008 Verizon Foundation. All Rights Reserv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This document may be reproduced and distributed solely for uses that are both (a) educational and (b) non-commercial. Any reproduction or distribution of this document for any other purpose, including commercial gain, is strictly prohib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800600" cy="4100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0880" y="2362320"/>
            <a:ext cx="251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Click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The Roster step is comple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971800" y="2743200"/>
            <a:ext cx="2819520" cy="26668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791320" y="5334120"/>
            <a:ext cx="685800" cy="22860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457200" y="44197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Trainers can verify the accuracy of their rosters during the session using the Professional Development Management System (Rustice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52280" y="152712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On the day of your training, attendees should fill out the Ro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1. Click on the green tab entitled “educa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914400" y="2622600"/>
            <a:ext cx="7315200" cy="324468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762120" y="4876920"/>
            <a:ext cx="1676160" cy="2286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1"/>
          <p:cNvGrpSpPr/>
          <p:nvPr/>
        </p:nvGrpSpPr>
        <p:grpSpPr>
          <a:xfrm>
            <a:off x="228600" y="4567320"/>
            <a:ext cx="457200" cy="461880"/>
            <a:chOff x="228600" y="4567320"/>
            <a:chExt cx="457200" cy="461880"/>
          </a:xfrm>
        </p:grpSpPr>
        <p:grpSp>
          <p:nvGrpSpPr>
            <p:cNvPr id="57" name="Oval 7"/>
            <p:cNvGrpSpPr/>
            <p:nvPr/>
          </p:nvGrpSpPr>
          <p:grpSpPr>
            <a:xfrm>
              <a:off x="228600" y="4592160"/>
              <a:ext cx="457200" cy="437040"/>
              <a:chOff x="228600" y="4592160"/>
              <a:chExt cx="457200" cy="437040"/>
            </a:xfrm>
          </p:grpSpPr>
          <p:pic>
            <p:nvPicPr>
              <p:cNvPr id="5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4592160"/>
                <a:ext cx="457200" cy="4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35880" y="4680720"/>
                <a:ext cx="24264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Rectangle 8" descr=""/>
            <p:cNvPicPr/>
            <p:nvPr/>
          </p:nvPicPr>
          <p:blipFill>
            <a:blip r:embed="rId4"/>
            <a:stretch/>
          </p:blipFill>
          <p:spPr>
            <a:xfrm>
              <a:off x="283320" y="4567320"/>
              <a:ext cx="35208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80880" y="1527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bb4b0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Select the “Professional Development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914400" y="2112840"/>
            <a:ext cx="7315200" cy="339120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8000640" y="3733920"/>
            <a:ext cx="609480" cy="6094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8458200" y="3352680"/>
            <a:ext cx="457200" cy="462240"/>
            <a:chOff x="8458200" y="3352680"/>
            <a:chExt cx="457200" cy="462240"/>
          </a:xfrm>
        </p:grpSpPr>
        <p:grpSp>
          <p:nvGrpSpPr>
            <p:cNvPr id="66" name="Oval 8"/>
            <p:cNvGrpSpPr/>
            <p:nvPr/>
          </p:nvGrpSpPr>
          <p:grpSpPr>
            <a:xfrm>
              <a:off x="8458200" y="3377520"/>
              <a:ext cx="457200" cy="437400"/>
              <a:chOff x="8458200" y="3377520"/>
              <a:chExt cx="457200" cy="437400"/>
            </a:xfrm>
          </p:grpSpPr>
          <p:pic>
            <p:nvPicPr>
              <p:cNvPr id="67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8458200" y="3377520"/>
                <a:ext cx="457200" cy="4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8565480" y="3465360"/>
                <a:ext cx="242640" cy="2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Rectangle 9" descr=""/>
            <p:cNvPicPr/>
            <p:nvPr/>
          </p:nvPicPr>
          <p:blipFill>
            <a:blip r:embed="rId4"/>
            <a:stretch/>
          </p:blipFill>
          <p:spPr>
            <a:xfrm>
              <a:off x="8512920" y="3352680"/>
              <a:ext cx="352080" cy="38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808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bb4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Select the “Training Attendee Form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rcRect l="0" t="0" r="0" b="16247"/>
          <a:stretch/>
        </p:blipFill>
        <p:spPr>
          <a:xfrm>
            <a:off x="914400" y="2114640"/>
            <a:ext cx="7315200" cy="3752640"/>
          </a:xfrm>
          <a:prstGeom prst="rect">
            <a:avLst/>
          </a:prstGeom>
          <a:ln w="0">
            <a:noFill/>
          </a:ln>
        </p:spPr>
      </p:pic>
      <p:sp>
        <p:nvSpPr>
          <p:cNvPr id="73" name="Line 5"/>
          <p:cNvSpPr/>
          <p:nvPr/>
        </p:nvSpPr>
        <p:spPr>
          <a:xfrm flipH="1">
            <a:off x="7543440" y="4800600"/>
            <a:ext cx="1066680" cy="5335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8418600" y="4483080"/>
            <a:ext cx="493560" cy="576000"/>
            <a:chOff x="8418600" y="4483080"/>
            <a:chExt cx="493560" cy="576000"/>
          </a:xfrm>
        </p:grpSpPr>
        <p:grpSp>
          <p:nvGrpSpPr>
            <p:cNvPr id="75" name="Oval 6"/>
            <p:cNvGrpSpPr/>
            <p:nvPr/>
          </p:nvGrpSpPr>
          <p:grpSpPr>
            <a:xfrm>
              <a:off x="8418600" y="4513320"/>
              <a:ext cx="493560" cy="545760"/>
              <a:chOff x="8418600" y="4513320"/>
              <a:chExt cx="493560" cy="545760"/>
            </a:xfrm>
          </p:grpSpPr>
          <p:pic>
            <p:nvPicPr>
              <p:cNvPr id="76" name="Oval 6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8600" y="4513320"/>
                <a:ext cx="493560" cy="54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530920" y="4624560"/>
                <a:ext cx="25992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" name="Rectangle 7" descr=""/>
            <p:cNvPicPr/>
            <p:nvPr/>
          </p:nvPicPr>
          <p:blipFill>
            <a:blip r:embed="rId4"/>
            <a:stretch/>
          </p:blipFill>
          <p:spPr>
            <a:xfrm>
              <a:off x="8430480" y="4483080"/>
              <a:ext cx="448200" cy="3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808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bb4b0d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Select the “Sign in on the Roster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14400" y="2112840"/>
            <a:ext cx="7315200" cy="408168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457200" y="4876920"/>
            <a:ext cx="685800" cy="76176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2"/>
          <p:cNvGrpSpPr/>
          <p:nvPr/>
        </p:nvGrpSpPr>
        <p:grpSpPr>
          <a:xfrm>
            <a:off x="152280" y="5410080"/>
            <a:ext cx="565200" cy="609480"/>
            <a:chOff x="152280" y="5410080"/>
            <a:chExt cx="565200" cy="609480"/>
          </a:xfrm>
        </p:grpSpPr>
        <p:grpSp>
          <p:nvGrpSpPr>
            <p:cNvPr id="84" name="Oval 4"/>
            <p:cNvGrpSpPr/>
            <p:nvPr/>
          </p:nvGrpSpPr>
          <p:grpSpPr>
            <a:xfrm>
              <a:off x="152280" y="5410080"/>
              <a:ext cx="565200" cy="609480"/>
              <a:chOff x="152280" y="5410080"/>
              <a:chExt cx="565200" cy="609480"/>
            </a:xfrm>
          </p:grpSpPr>
          <p:pic>
            <p:nvPicPr>
              <p:cNvPr id="85" name="Oval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5410080"/>
                <a:ext cx="565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290880" y="5532840"/>
                <a:ext cx="2952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Rectangle 5" descr=""/>
            <p:cNvPicPr/>
            <p:nvPr/>
          </p:nvPicPr>
          <p:blipFill>
            <a:blip r:embed="rId4"/>
            <a:stretch/>
          </p:blipFill>
          <p:spPr>
            <a:xfrm>
              <a:off x="216720" y="5410080"/>
              <a:ext cx="444600" cy="3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146480" y="1600200"/>
            <a:ext cx="465624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685800" y="53118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t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access previous days/weeks, use the “Previous Day” and “Next Day” buttons or use the drop down lists and click “Go.”  All columns can be sorted by clicking the column heade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2286000" y="4343400"/>
            <a:ext cx="1981080" cy="76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267080" y="4343400"/>
            <a:ext cx="1295640" cy="22860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80880" y="1676520"/>
            <a:ext cx="358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Trainings for the current date will app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42720">
              <a:lnSpc>
                <a:spcPct val="100000"/>
              </a:lnSpc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Locate your training i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42720">
              <a:lnSpc>
                <a:spcPct val="100000"/>
              </a:lnSpc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Click on the underlined date and time next to your name and training loc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428760" y="20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7240" indent="-342720">
              <a:lnSpc>
                <a:spcPct val="100000"/>
              </a:lnSpc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If  they are already logged in, they will be taken directly to the form on the next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343400" cy="2620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04920" y="28242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spcBef>
                <a:spcPts val="1250"/>
              </a:spcBef>
              <a:buClr>
                <a:srgbClr val="bb4b0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If an attendee has never registered with Think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98480" y="3433680"/>
            <a:ext cx="338292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b0d"/>
                </a:solidFill>
                <a:latin typeface="Arial"/>
              </a:rPr>
              <a:t>Click on the “Register for free” link and complete all of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342720">
              <a:lnSpc>
                <a:spcPct val="100000"/>
              </a:lnSpc>
              <a:spcBef>
                <a:spcPts val="601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Be sure to select an Organization when registering as it is a required field for rostering into a Training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886200" y="3886200"/>
            <a:ext cx="2438280" cy="1219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372360" y="5076720"/>
            <a:ext cx="990360" cy="15264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04920" y="15238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Attendees will be prompted to log into Think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52280" y="1523880"/>
            <a:ext cx="9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Attendees verify the selected training and their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800600" cy="4100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181480" y="1981080"/>
            <a:ext cx="35816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If an organization has not yet been selected, please do so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4b0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the following slide for mor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4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Attendees may edit any of their information on this 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ounded Rectangular Callout 5"/>
          <p:cNvGrpSpPr/>
          <p:nvPr/>
        </p:nvGrpSpPr>
        <p:grpSpPr>
          <a:xfrm>
            <a:off x="6629400" y="4648320"/>
            <a:ext cx="1577880" cy="1036440"/>
            <a:chOff x="6629400" y="4648320"/>
            <a:chExt cx="1577880" cy="1036440"/>
          </a:xfrm>
        </p:grpSpPr>
        <p:pic>
          <p:nvPicPr>
            <p:cNvPr id="107" name="Rounded Rectangular Callout 5" descr=""/>
            <p:cNvPicPr/>
            <p:nvPr/>
          </p:nvPicPr>
          <p:blipFill>
            <a:blip r:embed="rId3"/>
            <a:stretch/>
          </p:blipFill>
          <p:spPr>
            <a:xfrm>
              <a:off x="6629400" y="4648320"/>
              <a:ext cx="15778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6740280" y="4732200"/>
              <a:ext cx="1358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8"/>
          <p:cNvSpPr/>
          <p:nvPr/>
        </p:nvSpPr>
        <p:spPr>
          <a:xfrm>
            <a:off x="6696000" y="4803840"/>
            <a:ext cx="13716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se links to edit 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5257800" y="4952880"/>
            <a:ext cx="1295280" cy="76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 flipV="1">
            <a:off x="5181480" y="4495680"/>
            <a:ext cx="1371600" cy="4572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4343400" y="2514600"/>
            <a:ext cx="43434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2040" indent="-342720">
              <a:lnSpc>
                <a:spcPct val="100000"/>
              </a:lnSpc>
              <a:spcBef>
                <a:spcPts val="601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Click on the “Select Organization</a:t>
            </a:r>
            <a:r>
              <a:rPr b="0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“ </a:t>
            </a: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 indent="-342720">
              <a:lnSpc>
                <a:spcPct val="100000"/>
              </a:lnSpc>
              <a:spcBef>
                <a:spcPts val="601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Locate an organization by performing a search by ZI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42960" y="2209680"/>
            <a:ext cx="36241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144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4b0d"/>
                </a:solidFill>
                <a:latin typeface="Arial"/>
              </a:rPr>
              <a:t>Select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H="1" flipV="1">
            <a:off x="3276360" y="3324240"/>
            <a:ext cx="1523880" cy="11714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362320" y="3124080"/>
            <a:ext cx="914400" cy="22860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700520" y="4343400"/>
            <a:ext cx="35053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ote:  If an attendee does not know their organization’s ZIP code, they can click on the “Don’t know your ZIP code?” link to search by city an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03:49Z</dcterms:created>
  <dc:creator>Owner</dc:creator>
  <dc:description/>
  <dc:language>en-US</dc:language>
  <cp:lastModifiedBy>Elaine Habernig</cp:lastModifiedBy>
  <dcterms:modified xsi:type="dcterms:W3CDTF">2008-04-09T22:46:33Z</dcterms:modified>
  <cp:revision>60</cp:revision>
  <dc:subject/>
  <dc:title>PowerPoint Presentation</dc:title>
</cp:coreProperties>
</file>