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6BB5-291C-48D9-9A4C-0A063A114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137F-35B8-4346-89ED-A75EC4115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verify roster accuracy go to http://rusticello.mped.org and login using your trainer ID and password.  Click on the roster component on the left-hand side then click on the session whose rosters you want to check.  You will see the roster details page including the names and e-mail addresses of everyone who has sucessfully rostered into your s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F974-C892-4FED-9119-4F911FB08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6EF1-9043-4808-8729-5744D2F79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857D-2D83-4B8D-963E-2AD7919CA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C8FB-D8A5-4235-B1F4-5212D783F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5C30-710A-49EB-B7D6-23DFD5A8E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CAD9-B336-4FB2-8DE2-FE7198DDE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2EDB-638A-43A8-A0D4-5250DD8A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9797-D7BA-4588-84FB-3307B81E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39C3-0049-4376-BA68-79724164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FEC1-52DF-4054-B087-F9127203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0123-DE5C-4A90-AE07-9AD11C82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1AED-5DDD-4CF3-8018-058D3824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3463-B9DE-4C22-A2C3-A1BF7C44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5876-6A98-4C4B-AC03-44D1C84C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BAF9-32D6-41E7-AA62-6870DE3F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1541-D8FB-4539-A7C7-A90B6ED8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38DF-2AF6-4DBF-B258-B8E5B01B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8078-3E4C-427A-ADAE-E8E74D43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082D-E376-41CE-8B52-90F1E1C93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276720" y="4114800"/>
            <a:ext cx="5333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b4b0d"/>
                </a:solidFill>
                <a:latin typeface="Arial"/>
              </a:rPr>
              <a:t>A Field Trainer’s Gu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ectangle 3" descr=""/>
          <p:cNvPicPr/>
          <p:nvPr/>
        </p:nvPicPr>
        <p:blipFill>
          <a:blip r:embed="rId2"/>
          <a:stretch/>
        </p:blipFill>
        <p:spPr>
          <a:xfrm>
            <a:off x="3346560" y="3346560"/>
            <a:ext cx="5273640" cy="841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4419720" y="47242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b4b0d"/>
                </a:solidFill>
                <a:latin typeface="Arial"/>
              </a:rPr>
              <a:t>(Updated 3/5/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6176160"/>
            <a:ext cx="9144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Copyright © 2008 Verizon Foundation. All Rights Reserved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This document may be reproduced and distributed solely for uses that are both (a) educational and (b) non-commercial. Any reproduction or distribution of this document for any other purpose, including commercial gain, is strictly prohib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ext Box 4" descr=""/>
          <p:cNvPicPr/>
          <p:nvPr/>
        </p:nvPicPr>
        <p:blipFill>
          <a:blip r:embed="rId1"/>
          <a:stretch/>
        </p:blipFill>
        <p:spPr>
          <a:xfrm>
            <a:off x="530280" y="669960"/>
            <a:ext cx="8089920" cy="744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4038480" y="1676520"/>
            <a:ext cx="4800600" cy="4100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>
            <a:off x="380880" y="2362320"/>
            <a:ext cx="2514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bb4b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b0d"/>
                </a:solidFill>
                <a:latin typeface="Arial"/>
              </a:rPr>
              <a:t>Click Con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bb4b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b0d"/>
                </a:solidFill>
                <a:latin typeface="Arial"/>
              </a:rPr>
              <a:t>The Roster step is complet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2971800" y="2743200"/>
            <a:ext cx="2819520" cy="266688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5791320" y="5334120"/>
            <a:ext cx="685800" cy="22860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7"/>
          <p:cNvSpPr/>
          <p:nvPr/>
        </p:nvSpPr>
        <p:spPr>
          <a:xfrm>
            <a:off x="457200" y="441972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e: Trainers can verify the accuracy of their rosters during the session using the Professional Development Management System (Rusticel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 Box 4" descr=""/>
          <p:cNvPicPr/>
          <p:nvPr/>
        </p:nvPicPr>
        <p:blipFill>
          <a:blip r:embed="rId1"/>
          <a:stretch/>
        </p:blipFill>
        <p:spPr>
          <a:xfrm>
            <a:off x="530280" y="669960"/>
            <a:ext cx="8089920" cy="744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152280" y="1527120"/>
            <a:ext cx="883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b0d"/>
                </a:solidFill>
                <a:latin typeface="Arial"/>
              </a:rPr>
              <a:t>On the day of your training, attendees should fill out the Ros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4b0d"/>
                </a:solidFill>
                <a:latin typeface="Arial"/>
                <a:ea typeface="ＭＳ Ｐゴシック"/>
              </a:rPr>
              <a:t>1. Click on the green tab entitled “educat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914400" y="2622600"/>
            <a:ext cx="7315200" cy="3244680"/>
          </a:xfrm>
          <a:prstGeom prst="rect">
            <a:avLst/>
          </a:prstGeom>
          <a:ln w="0">
            <a:noFill/>
          </a:ln>
        </p:spPr>
      </p:pic>
      <p:sp>
        <p:nvSpPr>
          <p:cNvPr id="55" name="Line 5"/>
          <p:cNvSpPr/>
          <p:nvPr/>
        </p:nvSpPr>
        <p:spPr>
          <a:xfrm>
            <a:off x="762120" y="4876920"/>
            <a:ext cx="1676160" cy="22860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1"/>
          <p:cNvGrpSpPr/>
          <p:nvPr/>
        </p:nvGrpSpPr>
        <p:grpSpPr>
          <a:xfrm>
            <a:off x="228600" y="4567320"/>
            <a:ext cx="457200" cy="461880"/>
            <a:chOff x="228600" y="4567320"/>
            <a:chExt cx="457200" cy="461880"/>
          </a:xfrm>
        </p:grpSpPr>
        <p:grpSp>
          <p:nvGrpSpPr>
            <p:cNvPr id="57" name="Oval 7"/>
            <p:cNvGrpSpPr/>
            <p:nvPr/>
          </p:nvGrpSpPr>
          <p:grpSpPr>
            <a:xfrm>
              <a:off x="228600" y="4592160"/>
              <a:ext cx="457200" cy="437040"/>
              <a:chOff x="228600" y="4592160"/>
              <a:chExt cx="457200" cy="437040"/>
            </a:xfrm>
          </p:grpSpPr>
          <p:pic>
            <p:nvPicPr>
              <p:cNvPr id="58" name="Oval 7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4592160"/>
                <a:ext cx="457200" cy="43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335880" y="4680720"/>
                <a:ext cx="24264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Rectangle 8" descr=""/>
            <p:cNvPicPr/>
            <p:nvPr/>
          </p:nvPicPr>
          <p:blipFill>
            <a:blip r:embed="rId4"/>
            <a:stretch/>
          </p:blipFill>
          <p:spPr>
            <a:xfrm>
              <a:off x="283320" y="4567320"/>
              <a:ext cx="352080" cy="387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ext Box 4" descr=""/>
          <p:cNvPicPr/>
          <p:nvPr/>
        </p:nvPicPr>
        <p:blipFill>
          <a:blip r:embed="rId1"/>
          <a:stretch/>
        </p:blipFill>
        <p:spPr>
          <a:xfrm>
            <a:off x="530280" y="669960"/>
            <a:ext cx="8089920" cy="7444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380880" y="15271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199"/>
              </a:spcBef>
              <a:buClr>
                <a:srgbClr val="bb4b0d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4b0d"/>
                </a:solidFill>
                <a:latin typeface="Arial"/>
                <a:ea typeface="ＭＳ Ｐゴシック"/>
              </a:rPr>
              <a:t>Select the “Professional Development”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914400" y="2112840"/>
            <a:ext cx="7315200" cy="3391200"/>
          </a:xfrm>
          <a:prstGeom prst="rect">
            <a:avLst/>
          </a:prstGeom>
          <a:ln w="0">
            <a:noFill/>
          </a:ln>
        </p:spPr>
      </p:pic>
      <p:sp>
        <p:nvSpPr>
          <p:cNvPr id="64" name="Line 5"/>
          <p:cNvSpPr/>
          <p:nvPr/>
        </p:nvSpPr>
        <p:spPr>
          <a:xfrm flipH="1">
            <a:off x="8000640" y="3733920"/>
            <a:ext cx="609480" cy="60948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2"/>
          <p:cNvGrpSpPr/>
          <p:nvPr/>
        </p:nvGrpSpPr>
        <p:grpSpPr>
          <a:xfrm>
            <a:off x="8458200" y="3352680"/>
            <a:ext cx="457200" cy="462240"/>
            <a:chOff x="8458200" y="3352680"/>
            <a:chExt cx="457200" cy="462240"/>
          </a:xfrm>
        </p:grpSpPr>
        <p:grpSp>
          <p:nvGrpSpPr>
            <p:cNvPr id="66" name="Oval 8"/>
            <p:cNvGrpSpPr/>
            <p:nvPr/>
          </p:nvGrpSpPr>
          <p:grpSpPr>
            <a:xfrm>
              <a:off x="8458200" y="3377520"/>
              <a:ext cx="457200" cy="437400"/>
              <a:chOff x="8458200" y="3377520"/>
              <a:chExt cx="457200" cy="437400"/>
            </a:xfrm>
          </p:grpSpPr>
          <p:pic>
            <p:nvPicPr>
              <p:cNvPr id="67" name="Oval 8" descr=""/>
              <p:cNvPicPr/>
              <p:nvPr/>
            </p:nvPicPr>
            <p:blipFill>
              <a:blip r:embed="rId3"/>
              <a:stretch/>
            </p:blipFill>
            <p:spPr>
              <a:xfrm>
                <a:off x="8458200" y="3377520"/>
                <a:ext cx="457200" cy="43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8565480" y="3465360"/>
                <a:ext cx="242640" cy="21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9" name="Rectangle 9" descr=""/>
            <p:cNvPicPr/>
            <p:nvPr/>
          </p:nvPicPr>
          <p:blipFill>
            <a:blip r:embed="rId4"/>
            <a:stretch/>
          </p:blipFill>
          <p:spPr>
            <a:xfrm>
              <a:off x="8512920" y="3352680"/>
              <a:ext cx="352080" cy="387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ext Box 4" descr=""/>
          <p:cNvPicPr/>
          <p:nvPr/>
        </p:nvPicPr>
        <p:blipFill>
          <a:blip r:embed="rId1"/>
          <a:stretch/>
        </p:blipFill>
        <p:spPr>
          <a:xfrm>
            <a:off x="530280" y="669960"/>
            <a:ext cx="8089920" cy="7444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380880" y="1523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199"/>
              </a:spcBef>
              <a:buClr>
                <a:srgbClr val="bb4b0d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4b0d"/>
                </a:solidFill>
                <a:latin typeface="Arial"/>
                <a:ea typeface="ＭＳ Ｐゴシック"/>
              </a:rPr>
              <a:t>Select the “Training Attendee Forms”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rcRect l="0" t="0" r="0" b="16247"/>
          <a:stretch/>
        </p:blipFill>
        <p:spPr>
          <a:xfrm>
            <a:off x="914400" y="2114640"/>
            <a:ext cx="7315200" cy="3752640"/>
          </a:xfrm>
          <a:prstGeom prst="rect">
            <a:avLst/>
          </a:prstGeom>
          <a:ln w="0">
            <a:noFill/>
          </a:ln>
        </p:spPr>
      </p:pic>
      <p:sp>
        <p:nvSpPr>
          <p:cNvPr id="73" name="Line 5"/>
          <p:cNvSpPr/>
          <p:nvPr/>
        </p:nvSpPr>
        <p:spPr>
          <a:xfrm flipH="1">
            <a:off x="7543440" y="4800600"/>
            <a:ext cx="1066680" cy="53352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1"/>
          <p:cNvGrpSpPr/>
          <p:nvPr/>
        </p:nvGrpSpPr>
        <p:grpSpPr>
          <a:xfrm>
            <a:off x="8418600" y="4483080"/>
            <a:ext cx="493560" cy="576000"/>
            <a:chOff x="8418600" y="4483080"/>
            <a:chExt cx="493560" cy="576000"/>
          </a:xfrm>
        </p:grpSpPr>
        <p:grpSp>
          <p:nvGrpSpPr>
            <p:cNvPr id="75" name="Oval 6"/>
            <p:cNvGrpSpPr/>
            <p:nvPr/>
          </p:nvGrpSpPr>
          <p:grpSpPr>
            <a:xfrm>
              <a:off x="8418600" y="4513320"/>
              <a:ext cx="493560" cy="545760"/>
              <a:chOff x="8418600" y="4513320"/>
              <a:chExt cx="493560" cy="545760"/>
            </a:xfrm>
          </p:grpSpPr>
          <p:pic>
            <p:nvPicPr>
              <p:cNvPr id="76" name="Oval 6" descr=""/>
              <p:cNvPicPr/>
              <p:nvPr/>
            </p:nvPicPr>
            <p:blipFill>
              <a:blip r:embed="rId3"/>
              <a:stretch/>
            </p:blipFill>
            <p:spPr>
              <a:xfrm>
                <a:off x="8418600" y="4513320"/>
                <a:ext cx="493560" cy="54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8530920" y="4624560"/>
                <a:ext cx="25992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8" name="Rectangle 7" descr=""/>
            <p:cNvPicPr/>
            <p:nvPr/>
          </p:nvPicPr>
          <p:blipFill>
            <a:blip r:embed="rId4"/>
            <a:stretch/>
          </p:blipFill>
          <p:spPr>
            <a:xfrm>
              <a:off x="8430480" y="4483080"/>
              <a:ext cx="448200" cy="34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ext Box 4" descr=""/>
          <p:cNvPicPr/>
          <p:nvPr/>
        </p:nvPicPr>
        <p:blipFill>
          <a:blip r:embed="rId1"/>
          <a:stretch/>
        </p:blipFill>
        <p:spPr>
          <a:xfrm>
            <a:off x="530280" y="669960"/>
            <a:ext cx="8089920" cy="7444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380880" y="1523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199"/>
              </a:spcBef>
              <a:buClr>
                <a:srgbClr val="bb4b0d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4b0d"/>
                </a:solidFill>
                <a:latin typeface="Arial"/>
                <a:ea typeface="ＭＳ Ｐゴシック"/>
              </a:rPr>
              <a:t>Select the “Sign in on the Roster”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914400" y="2112840"/>
            <a:ext cx="7315200" cy="4081680"/>
          </a:xfrm>
          <a:prstGeom prst="rect">
            <a:avLst/>
          </a:prstGeom>
          <a:ln w="0">
            <a:noFill/>
          </a:ln>
        </p:spPr>
      </p:pic>
      <p:sp>
        <p:nvSpPr>
          <p:cNvPr id="82" name="Line 5"/>
          <p:cNvSpPr/>
          <p:nvPr/>
        </p:nvSpPr>
        <p:spPr>
          <a:xfrm flipV="1">
            <a:off x="457200" y="4876920"/>
            <a:ext cx="685800" cy="76176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2"/>
          <p:cNvGrpSpPr/>
          <p:nvPr/>
        </p:nvGrpSpPr>
        <p:grpSpPr>
          <a:xfrm>
            <a:off x="152280" y="5410080"/>
            <a:ext cx="565200" cy="609480"/>
            <a:chOff x="152280" y="5410080"/>
            <a:chExt cx="565200" cy="609480"/>
          </a:xfrm>
        </p:grpSpPr>
        <p:grpSp>
          <p:nvGrpSpPr>
            <p:cNvPr id="84" name="Oval 4"/>
            <p:cNvGrpSpPr/>
            <p:nvPr/>
          </p:nvGrpSpPr>
          <p:grpSpPr>
            <a:xfrm>
              <a:off x="152280" y="5410080"/>
              <a:ext cx="565200" cy="609480"/>
              <a:chOff x="152280" y="5410080"/>
              <a:chExt cx="565200" cy="609480"/>
            </a:xfrm>
          </p:grpSpPr>
          <p:pic>
            <p:nvPicPr>
              <p:cNvPr id="85" name="Oval 4" descr=""/>
              <p:cNvPicPr/>
              <p:nvPr/>
            </p:nvPicPr>
            <p:blipFill>
              <a:blip r:embed="rId3"/>
              <a:stretch/>
            </p:blipFill>
            <p:spPr>
              <a:xfrm>
                <a:off x="152280" y="5410080"/>
                <a:ext cx="56520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290880" y="5532840"/>
                <a:ext cx="29520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7" name="Rectangle 5" descr=""/>
            <p:cNvPicPr/>
            <p:nvPr/>
          </p:nvPicPr>
          <p:blipFill>
            <a:blip r:embed="rId4"/>
            <a:stretch/>
          </p:blipFill>
          <p:spPr>
            <a:xfrm>
              <a:off x="216720" y="5410080"/>
              <a:ext cx="444600" cy="365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ext Box 4" descr=""/>
          <p:cNvPicPr/>
          <p:nvPr/>
        </p:nvPicPr>
        <p:blipFill>
          <a:blip r:embed="rId1"/>
          <a:stretch/>
        </p:blipFill>
        <p:spPr>
          <a:xfrm>
            <a:off x="530280" y="669960"/>
            <a:ext cx="8089920" cy="744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4146480" y="1600200"/>
            <a:ext cx="4656240" cy="3429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685800" y="5311800"/>
            <a:ext cx="8229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Note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access previous days/weeks, use the “Previous Day” and “Next Day” buttons or use the drop down lists and click “Go.”  All columns can be sorted by clicking the column header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2286000" y="4343400"/>
            <a:ext cx="1981080" cy="7632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4267080" y="4343400"/>
            <a:ext cx="1295640" cy="22860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380880" y="1676520"/>
            <a:ext cx="3581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b0d"/>
                </a:solidFill>
                <a:latin typeface="Arial"/>
              </a:rPr>
              <a:t>Trainings for the current date will appe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342720">
              <a:lnSpc>
                <a:spcPct val="100000"/>
              </a:lnSpc>
              <a:buClr>
                <a:srgbClr val="bb4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b0d"/>
                </a:solidFill>
                <a:latin typeface="Arial"/>
                <a:ea typeface="ＭＳ Ｐゴシック"/>
              </a:rPr>
              <a:t>Locate your training in th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342720">
              <a:lnSpc>
                <a:spcPct val="100000"/>
              </a:lnSpc>
              <a:buClr>
                <a:srgbClr val="bb4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b0d"/>
                </a:solidFill>
                <a:latin typeface="Arial"/>
                <a:ea typeface="ＭＳ Ｐゴシック"/>
              </a:rPr>
              <a:t>Click on the underlined date and time next to your name and training loc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ext Box 4" descr=""/>
          <p:cNvPicPr/>
          <p:nvPr/>
        </p:nvPicPr>
        <p:blipFill>
          <a:blip r:embed="rId1"/>
          <a:stretch/>
        </p:blipFill>
        <p:spPr>
          <a:xfrm>
            <a:off x="530280" y="669960"/>
            <a:ext cx="8089920" cy="7444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428760" y="20430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7240" indent="-342720">
              <a:lnSpc>
                <a:spcPct val="100000"/>
              </a:lnSpc>
              <a:buClr>
                <a:srgbClr val="bb4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4b0d"/>
                </a:solidFill>
                <a:latin typeface="Arial"/>
                <a:ea typeface="ＭＳ Ｐゴシック"/>
              </a:rPr>
              <a:t>If  they are already logged in, they will be taken directly to the form on the next sl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4495680" y="3276720"/>
            <a:ext cx="4343400" cy="262080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304920" y="282420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>
              <a:spcBef>
                <a:spcPts val="1250"/>
              </a:spcBef>
              <a:buClr>
                <a:srgbClr val="bb4b0d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b0d"/>
                </a:solidFill>
                <a:latin typeface="Arial"/>
              </a:rPr>
              <a:t>If an attendee has never registered with Thinkfi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798480" y="3433680"/>
            <a:ext cx="3382920" cy="26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bb4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4b0d"/>
                </a:solidFill>
                <a:latin typeface="Arial"/>
              </a:rPr>
              <a:t>Click on the “Register for free” link and complete all of the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342720">
              <a:lnSpc>
                <a:spcPct val="100000"/>
              </a:lnSpc>
              <a:spcBef>
                <a:spcPts val="601"/>
              </a:spcBef>
              <a:buClr>
                <a:srgbClr val="bb4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4b0d"/>
                </a:solidFill>
                <a:latin typeface="Arial"/>
                <a:ea typeface="ＭＳ Ｐゴシック"/>
              </a:rPr>
              <a:t>Be sure to select an Organization when registering as it is a required field for rostering into a Training S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3886200" y="3886200"/>
            <a:ext cx="2438280" cy="121932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6372360" y="5076720"/>
            <a:ext cx="990360" cy="15264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304920" y="152388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bb4b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b0d"/>
                </a:solidFill>
                <a:latin typeface="Arial"/>
              </a:rPr>
              <a:t>Attendees will be prompted to log into Thinkfi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ext Box 4" descr=""/>
          <p:cNvPicPr/>
          <p:nvPr/>
        </p:nvPicPr>
        <p:blipFill>
          <a:blip r:embed="rId1"/>
          <a:stretch/>
        </p:blipFill>
        <p:spPr>
          <a:xfrm>
            <a:off x="530280" y="669960"/>
            <a:ext cx="8089920" cy="7444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152280" y="1523880"/>
            <a:ext cx="9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bb4b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b0d"/>
                </a:solidFill>
                <a:latin typeface="Arial"/>
              </a:rPr>
              <a:t>Attendees verify the selected training and their person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4800600" cy="41007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5181480" y="1981080"/>
            <a:ext cx="35816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bb4b0d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b0d"/>
                </a:solidFill>
                <a:latin typeface="Arial"/>
              </a:rPr>
              <a:t>If an organization has not yet been selected, please do so at this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b4b0d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e the following slide for more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b4b0d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b0d"/>
                </a:solidFill>
                <a:latin typeface="Arial"/>
              </a:rPr>
              <a:t>Attendees may edit any of their information on this p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Rounded Rectangular Callout 5"/>
          <p:cNvGrpSpPr/>
          <p:nvPr/>
        </p:nvGrpSpPr>
        <p:grpSpPr>
          <a:xfrm>
            <a:off x="6629400" y="4648320"/>
            <a:ext cx="1577880" cy="1036440"/>
            <a:chOff x="6629400" y="4648320"/>
            <a:chExt cx="1577880" cy="1036440"/>
          </a:xfrm>
        </p:grpSpPr>
        <p:pic>
          <p:nvPicPr>
            <p:cNvPr id="107" name="Rounded Rectangular Callout 5" descr=""/>
            <p:cNvPicPr/>
            <p:nvPr/>
          </p:nvPicPr>
          <p:blipFill>
            <a:blip r:embed="rId3"/>
            <a:stretch/>
          </p:blipFill>
          <p:spPr>
            <a:xfrm>
              <a:off x="6629400" y="4648320"/>
              <a:ext cx="157788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7"/>
            <p:cNvSpPr/>
            <p:nvPr/>
          </p:nvSpPr>
          <p:spPr>
            <a:xfrm>
              <a:off x="6740280" y="4732200"/>
              <a:ext cx="1358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18"/>
          <p:cNvSpPr/>
          <p:nvPr/>
        </p:nvSpPr>
        <p:spPr>
          <a:xfrm>
            <a:off x="6696000" y="4803840"/>
            <a:ext cx="13716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these links to edit pers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 flipH="1">
            <a:off x="5257800" y="4952880"/>
            <a:ext cx="1295280" cy="7632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 flipH="1" flipV="1">
            <a:off x="5181480" y="4495680"/>
            <a:ext cx="1371600" cy="45720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ext Box 4" descr=""/>
          <p:cNvPicPr/>
          <p:nvPr/>
        </p:nvPicPr>
        <p:blipFill>
          <a:blip r:embed="rId1"/>
          <a:stretch/>
        </p:blipFill>
        <p:spPr>
          <a:xfrm>
            <a:off x="530280" y="669960"/>
            <a:ext cx="8089920" cy="7444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"/>
          <p:cNvSpPr/>
          <p:nvPr/>
        </p:nvSpPr>
        <p:spPr>
          <a:xfrm>
            <a:off x="4343400" y="2514600"/>
            <a:ext cx="4343400" cy="20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92040" indent="-342720">
              <a:lnSpc>
                <a:spcPct val="100000"/>
              </a:lnSpc>
              <a:spcBef>
                <a:spcPts val="601"/>
              </a:spcBef>
              <a:buClr>
                <a:srgbClr val="bb4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b0d"/>
                </a:solidFill>
                <a:latin typeface="Arial"/>
                <a:ea typeface="ＭＳ Ｐゴシック"/>
              </a:rPr>
              <a:t>Click on the “Select Organization</a:t>
            </a:r>
            <a:r>
              <a:rPr b="0" lang="en-US" sz="2000" spc="-1" strike="noStrike">
                <a:solidFill>
                  <a:srgbClr val="bb4b0d"/>
                </a:solidFill>
                <a:latin typeface="Arial"/>
                <a:ea typeface="ＭＳ Ｐゴシック"/>
              </a:rPr>
              <a:t>“ </a:t>
            </a:r>
            <a:r>
              <a:rPr b="1" lang="en-US" sz="2000" spc="-1" strike="noStrike">
                <a:solidFill>
                  <a:srgbClr val="bb4b0d"/>
                </a:solidFill>
                <a:latin typeface="Arial"/>
                <a:ea typeface="ＭＳ Ｐゴシック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2040" indent="-342720">
              <a:lnSpc>
                <a:spcPct val="100000"/>
              </a:lnSpc>
              <a:spcBef>
                <a:spcPts val="601"/>
              </a:spcBef>
              <a:buClr>
                <a:srgbClr val="bb4b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4b0d"/>
                </a:solidFill>
                <a:latin typeface="Arial"/>
                <a:ea typeface="ＭＳ Ｐゴシック"/>
              </a:rPr>
              <a:t>Locate an organization by performing a search by ZIP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204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642960" y="2209680"/>
            <a:ext cx="362412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0" y="1447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4b0d"/>
                </a:solidFill>
                <a:latin typeface="Arial"/>
              </a:rPr>
              <a:t>Select an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"/>
          <p:cNvSpPr/>
          <p:nvPr/>
        </p:nvSpPr>
        <p:spPr>
          <a:xfrm flipH="1" flipV="1">
            <a:off x="3276360" y="3324240"/>
            <a:ext cx="1523880" cy="117144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362320" y="3124080"/>
            <a:ext cx="914400" cy="228600"/>
          </a:xfrm>
          <a:prstGeom prst="rect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4700520" y="4343400"/>
            <a:ext cx="35053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ote:  If an attendee does not know their organization’s ZIP code, they can click on the “Don’t know your ZIP code?” link to search by city and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03:49Z</dcterms:created>
  <dc:creator>Owner</dc:creator>
  <dc:description/>
  <dc:language>en-US</dc:language>
  <cp:lastModifiedBy>Elaine Habernig</cp:lastModifiedBy>
  <dcterms:modified xsi:type="dcterms:W3CDTF">2008-04-09T22:46:33Z</dcterms:modified>
  <cp:revision>60</cp:revision>
  <dc:subject/>
  <dc:title>PowerPoint Presentation</dc:title>
</cp:coreProperties>
</file>