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EA9-426F-4BD3-81A7-1C846AF7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3E4-8C93-4C23-8838-72862D66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7D9-0DF3-4487-BD74-8A434CD2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862-85AE-415D-B4D9-BF1E5611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45B3-A4E0-4480-B1F6-0300F346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972F-094C-4F0F-8CB4-D4FD80F7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CC18-3F77-4616-A36E-5DBADC63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F796-BB05-4073-ABC9-E290C299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6855-CBF2-4B52-B842-DB9FA2E2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9CB0-1411-44B2-8B4A-71BAD2E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DD25-A9DA-44CC-8064-FBBEEEE5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546-7051-45E0-8A1B-1D305AE5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428-9750-4C2A-9294-10326A4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3408-847B-48DD-A864-ACB22E93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C3C3-360C-4BAB-956C-0E69711E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ECED-5C7B-43AB-B550-265F3DE5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173F-2362-4D90-9EB8-5C03AB4A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6C7-49B3-419E-89B6-C162D639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47C-16F2-4D17-A01D-8BD47EB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118-4D8F-414A-BCC2-1A164C4E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26D-F63A-43AE-A11D-15AE1421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4EA-4F74-4A91-AF98-E820999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4E7-27F6-4B38-8077-2F079C3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065-E77C-4A6A-BD2D-2BEE4B5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8D1D-ED42-47AA-94DA-29DF444B7D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ACF3-608F-4016-B0F7-9640ABC61D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4360" y="476280"/>
            <a:ext cx="799308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-ordina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still use the same rule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cross first then u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x is at -2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at 3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308720" y="4941720"/>
            <a:ext cx="287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68360" y="18900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s x is at 4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-3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79600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443640" y="4653000"/>
            <a:ext cx="4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227640" y="5013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508720" y="4508640"/>
            <a:ext cx="2156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020000" y="4508640"/>
            <a:ext cx="216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308720" y="4941720"/>
            <a:ext cx="287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68360" y="18900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s x is at -5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-2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443640" y="4653000"/>
            <a:ext cx="4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227640" y="5013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08720" y="4508640"/>
            <a:ext cx="2156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020000" y="4508640"/>
            <a:ext cx="216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124000" y="443700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916360" y="4221000"/>
            <a:ext cx="38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-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564000" y="4221000"/>
            <a:ext cx="361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419640" y="4724280"/>
            <a:ext cx="7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700360" y="4221000"/>
            <a:ext cx="19044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067280" y="4221000"/>
            <a:ext cx="19044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308720" y="1413000"/>
            <a:ext cx="2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580000" y="242100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5580000" y="4508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76720" y="292428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124000" y="1341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276720" y="5013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885080" y="5013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03640" y="3933720"/>
            <a:ext cx="2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0"/>
            <a:ext cx="914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are the co-ordinat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f these point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1187280" y="404640"/>
            <a:ext cx="6840720" cy="568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32000" y="2060640"/>
            <a:ext cx="43992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34136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we look at how far ACROSS the grid the point is, this is on the horizontal ax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516720" y="2492280"/>
            <a:ext cx="217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 Acros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3429000"/>
            <a:ext cx="26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we look at how far up the point is, this is on the vertical ax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659640" y="4437000"/>
            <a:ext cx="16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4 u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60360" y="59500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2060640"/>
            <a:ext cx="4395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134136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rite the numbers with the horizontal number firs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77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885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4221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separate the numbers with a com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67640" y="3500280"/>
            <a:ext cx="15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03640" y="2060640"/>
            <a:ext cx="4395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77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885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4221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brackets around the co-ordin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67640" y="3500280"/>
            <a:ext cx="15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72360" y="2708280"/>
            <a:ext cx="36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237" name=""/>
          <p:cNvSpPr txBox="1"/>
          <p:nvPr/>
        </p:nvSpPr>
        <p:spPr>
          <a:xfrm rot="10668600">
            <a:off x="8604000" y="2707920"/>
            <a:ext cx="36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238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547640" y="981000"/>
          <a:ext cx="6120000" cy="52117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581040"/>
                <a:gridCol w="638280"/>
                <a:gridCol w="609480"/>
                <a:gridCol w="609480"/>
                <a:gridCol w="609840"/>
                <a:gridCol w="609480"/>
                <a:gridCol w="60948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1547640" y="616572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54764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072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5380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88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980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3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788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90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9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30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6072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944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5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6072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607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07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6072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60720" y="18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6072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8160" y="83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9280" y="189000"/>
            <a:ext cx="878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are the co-ordinates of these points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03640" y="177336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27640" y="4365720"/>
            <a:ext cx="4032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56000" y="3789360"/>
            <a:ext cx="43164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03280" y="177336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04000" y="1268280"/>
            <a:ext cx="403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27640" y="335772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4941720"/>
            <a:ext cx="330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451640" y="3068640"/>
            <a:ext cx="403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88000" y="1197000"/>
            <a:ext cx="330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340000" y="4941720"/>
            <a:ext cx="330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6491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 far we have looked a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in one quadra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can also have co-ordin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more than one quadra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81040"/>
                <a:gridCol w="581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have to extend our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o fit the extra quadra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81040"/>
                <a:gridCol w="581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now have to number our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cause they go past 0 they are negative numb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7:34:34Z</dcterms:created>
  <dc:creator>JSmithies</dc:creator>
  <dc:description/>
  <dc:language>en-US</dc:language>
  <cp:lastModifiedBy>Home</cp:lastModifiedBy>
  <dcterms:modified xsi:type="dcterms:W3CDTF">2002-11-24T16:32:58Z</dcterms:modified>
  <cp:revision>7</cp:revision>
  <dc:subject/>
  <dc:title>Slide 1</dc:title>
</cp:coreProperties>
</file>