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5C0-4D1C-42C0-A3C3-A4DD6844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F8D-8759-4B0D-BE4E-8445EF42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D7C-F7AF-4FC7-AB82-4F0A5E80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DC9-221D-402D-957A-E1FC0C3F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D9B7-99EE-4C4A-836C-A684CD0E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403E-7BB2-402B-9752-CFDDE16E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62CB-3BA7-4515-8448-5DB90991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FAA3-9335-4837-8A03-2BC3D22A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C969-1C08-4A35-985D-F1F61320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A160-2794-46D7-B12F-8C926FE5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1D30-117D-46B6-90F8-BE1E0D6A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ABC-092F-4601-875C-A8EF7D9B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C273-AF77-4222-970D-4EA0CC27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A30B-0DB6-4D62-8A24-FEDF42D7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D1CF-CC5E-42BE-8CCD-4AB39CDB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28BC-C091-49D0-8C5E-27DDFF6F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DE61-7B86-4326-B0A8-56837EC6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E91-4F10-485D-8DF6-19F8B871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EB7B-56C7-400E-B1F7-5033D4ED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886-A44F-410C-BC31-E372EB29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8EB-2C49-419C-9CC2-40689743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131-7DCC-4430-9689-CDEB13F1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68F5-E993-46C1-BBCA-27CECC86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8F3-563F-4624-96A3-4438FD03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4171-2C42-47B1-9E40-8C4147F4CB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5FDE-2289-473E-9F85-50D99B93BE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4360" y="476280"/>
            <a:ext cx="799308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-ordinat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 still use the same rule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cross first then u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51280" y="184464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x is at -2 on the horizont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d at 3 on the vertic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51280" y="184464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627280" y="1484280"/>
            <a:ext cx="36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2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276720" y="148428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132000" y="1844640"/>
            <a:ext cx="763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,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340000" y="1484280"/>
            <a:ext cx="142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635280" y="1484280"/>
            <a:ext cx="1904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)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51280" y="184464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627280" y="1484280"/>
            <a:ext cx="36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2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276720" y="148428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132000" y="1844640"/>
            <a:ext cx="763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,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340000" y="1484280"/>
            <a:ext cx="142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635280" y="1484280"/>
            <a:ext cx="1904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)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7308720" y="4941720"/>
            <a:ext cx="28764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68360" y="189000"/>
            <a:ext cx="83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is x is at 4 on the horizont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d -3 on the vertic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5796000" y="4581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443640" y="4653000"/>
            <a:ext cx="45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227640" y="5013360"/>
            <a:ext cx="144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508720" y="4508640"/>
            <a:ext cx="21564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7020000" y="4508640"/>
            <a:ext cx="21600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ather"/>
              </a:rPr>
              <a:t>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ather"/>
              <a:ea typeface="Heat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51280" y="184464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627280" y="1484280"/>
            <a:ext cx="36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2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276720" y="148428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132000" y="1844640"/>
            <a:ext cx="763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,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340000" y="1484280"/>
            <a:ext cx="142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635280" y="1484280"/>
            <a:ext cx="1904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)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308720" y="4941720"/>
            <a:ext cx="28764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68360" y="189000"/>
            <a:ext cx="83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is x is at -5 on the horizont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d -2 on the vertic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796000" y="4581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443640" y="4653000"/>
            <a:ext cx="45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227640" y="5013360"/>
            <a:ext cx="144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5508720" y="4508640"/>
            <a:ext cx="21564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7020000" y="4508640"/>
            <a:ext cx="21600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ather"/>
              </a:rPr>
              <a:t>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2124000" y="443700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916360" y="4221000"/>
            <a:ext cx="380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-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564000" y="4221000"/>
            <a:ext cx="361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-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419640" y="4724280"/>
            <a:ext cx="72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700360" y="4221000"/>
            <a:ext cx="190440" cy="6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067280" y="4221000"/>
            <a:ext cx="190440" cy="6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1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308720" y="1413000"/>
            <a:ext cx="287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5580000" y="242100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5580000" y="450864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276720" y="292428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124000" y="134136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276720" y="501336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885080" y="501336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003640" y="3933720"/>
            <a:ext cx="287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0" y="0"/>
            <a:ext cx="91440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at are the co-ordinat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f these points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1187280" y="404640"/>
            <a:ext cx="6840720" cy="568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ell don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95280" y="260280"/>
            <a:ext cx="842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-ordinates tell us where a point is on a gri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3880" y="1397160"/>
          <a:ext cx="4632480" cy="4119480"/>
        </p:xfrm>
        <a:graphic>
          <a:graphicData uri="http://schemas.openxmlformats.org/drawingml/2006/table">
            <a:tbl>
              <a:tblPr/>
              <a:tblGrid>
                <a:gridCol w="927360"/>
                <a:gridCol w="925200"/>
                <a:gridCol w="927360"/>
                <a:gridCol w="925560"/>
                <a:gridCol w="92700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547640" y="5516640"/>
            <a:ext cx="49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547640" y="1267920"/>
            <a:ext cx="0" cy="424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5589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32000" y="2060640"/>
            <a:ext cx="43992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341360"/>
            <a:ext cx="27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we look at how far ACROSS the grid the point is, this is on the horizontal ax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516720" y="2492280"/>
            <a:ext cx="2171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 Acros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348000" y="2276640"/>
            <a:ext cx="0" cy="32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3429000"/>
            <a:ext cx="26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we look at how far up the point is, this is on the vertical ax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659640" y="4437000"/>
            <a:ext cx="1643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4 up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2205000"/>
            <a:ext cx="18720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60360" y="59500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6160" y="2205000"/>
            <a:ext cx="34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5280" y="260280"/>
            <a:ext cx="842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-ordinates tell us where a point is on a gri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523880" y="1397160"/>
          <a:ext cx="4632480" cy="4119480"/>
        </p:xfrm>
        <a:graphic>
          <a:graphicData uri="http://schemas.openxmlformats.org/drawingml/2006/table">
            <a:tbl>
              <a:tblPr/>
              <a:tblGrid>
                <a:gridCol w="927360"/>
                <a:gridCol w="925200"/>
                <a:gridCol w="927360"/>
                <a:gridCol w="925560"/>
                <a:gridCol w="92700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1547640" y="5516640"/>
            <a:ext cx="49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547640" y="1267920"/>
            <a:ext cx="0" cy="424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5892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672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4036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3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68360" y="5589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8800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03640" y="2060640"/>
            <a:ext cx="43956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1341360"/>
            <a:ext cx="27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rite the numbers with the horizontal number firs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48000" y="2276640"/>
            <a:ext cx="0" cy="32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47640" y="2205000"/>
            <a:ext cx="18720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77080" y="2708280"/>
            <a:ext cx="5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885080" y="2708280"/>
            <a:ext cx="5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6588000" y="422100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separate the numbers with a com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667640" y="3500280"/>
            <a:ext cx="152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5950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6160" y="2205000"/>
            <a:ext cx="34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5280" y="260280"/>
            <a:ext cx="842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-ordinates tell us where a point is on a gri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23880" y="1397160"/>
          <a:ext cx="4632480" cy="4119480"/>
        </p:xfrm>
        <a:graphic>
          <a:graphicData uri="http://schemas.openxmlformats.org/drawingml/2006/table">
            <a:tbl>
              <a:tblPr/>
              <a:tblGrid>
                <a:gridCol w="927360"/>
                <a:gridCol w="925200"/>
                <a:gridCol w="927360"/>
                <a:gridCol w="925560"/>
                <a:gridCol w="92700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1547640" y="5516640"/>
            <a:ext cx="49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547640" y="1267920"/>
            <a:ext cx="0" cy="424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872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5892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5892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672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4036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5589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8800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03640" y="2060640"/>
            <a:ext cx="43956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348000" y="2276640"/>
            <a:ext cx="0" cy="32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2205000"/>
            <a:ext cx="18720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77080" y="2708280"/>
            <a:ext cx="5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885080" y="2708280"/>
            <a:ext cx="5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6588000" y="422100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brackets around the co-ordin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667640" y="3500280"/>
            <a:ext cx="152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372360" y="2708280"/>
            <a:ext cx="36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237" name=""/>
          <p:cNvSpPr txBox="1"/>
          <p:nvPr/>
        </p:nvSpPr>
        <p:spPr>
          <a:xfrm rot="10668600">
            <a:off x="8604000" y="2707920"/>
            <a:ext cx="36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238" name=""/>
          <p:cNvSpPr/>
          <p:nvPr/>
        </p:nvSpPr>
        <p:spPr>
          <a:xfrm>
            <a:off x="686160" y="2205000"/>
            <a:ext cx="34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71640" y="5950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547640" y="981000"/>
          <a:ext cx="6120000" cy="52117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581040"/>
                <a:gridCol w="638280"/>
                <a:gridCol w="609480"/>
                <a:gridCol w="609480"/>
                <a:gridCol w="609840"/>
                <a:gridCol w="609480"/>
                <a:gridCol w="609480"/>
                <a:gridCol w="63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1547640" y="616572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547640" y="765000"/>
            <a:ext cx="0" cy="540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60720" y="44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53800" y="623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888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2980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53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7888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2908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29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308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5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81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6072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07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944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5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6072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607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07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6072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60720" y="184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6072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18160" y="83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79280" y="189000"/>
            <a:ext cx="878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at are the co-ordinates of these points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03640" y="1773360"/>
            <a:ext cx="3301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27640" y="4365720"/>
            <a:ext cx="40320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56000" y="3789360"/>
            <a:ext cx="43164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03280" y="1773360"/>
            <a:ext cx="3301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04000" y="1268280"/>
            <a:ext cx="4032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427640" y="3357720"/>
            <a:ext cx="3301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51280" y="4941720"/>
            <a:ext cx="3301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451640" y="3068640"/>
            <a:ext cx="403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788000" y="1197000"/>
            <a:ext cx="330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340000" y="4941720"/>
            <a:ext cx="3301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160" y="2205000"/>
            <a:ext cx="34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64000" y="64911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o far we have looked at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-ordinates in one quadra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610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 can also have co-ordin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 more than one quadra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48610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81040"/>
                <a:gridCol w="5810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 have to extend our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o fit the extra quadran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48610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81040"/>
                <a:gridCol w="5810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 now have to number our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ecause they go past 0 they are negative numb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7:34:34Z</dcterms:created>
  <dc:creator>JSmithies</dc:creator>
  <dc:description/>
  <dc:language>en-US</dc:language>
  <cp:lastModifiedBy>Home</cp:lastModifiedBy>
  <dcterms:modified xsi:type="dcterms:W3CDTF">2002-11-24T16:32:58Z</dcterms:modified>
  <cp:revision>7</cp:revision>
  <dc:subject/>
  <dc:title>Slide 1</dc:title>
</cp:coreProperties>
</file>