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171-0BC0-4ECB-8F0D-1AE06D9A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DB92-CBB4-45E3-ADEB-61754070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80B-45D2-423A-A8FC-89C4195A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AFA-8DF3-400E-83C4-A5E8A959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AE6A-F8DE-4E80-8550-CAFC1E59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39E0-9071-4859-A134-F7C8B40A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50D4-4804-4254-8960-7CAB4E12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F0C3-9880-499F-BA88-5D8B530C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A15E-19A8-4A66-A4F3-E6A317F1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E2F8-9BB4-4199-9EC9-6812C82C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A11C-CD66-47D0-9CAA-081C083E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F3EE-E3E5-4037-9803-AAACF37E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FECF-CA28-42CF-9925-0CAFC711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57EE-ACFF-487C-BCC5-C7F00A60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FEF2-8A3E-4002-B9EC-3D866C09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A5CB-62D7-4D56-A311-1112FF81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1F47-808C-45DC-B590-EA473F0D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44EA-874D-4711-8C4A-ECDD81DE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559-5BF2-4116-BCB9-5E2A5D1D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7AD-E519-42D3-8FA0-713A01B2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A11C-C19B-492C-AFD1-E6B6A97E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F99A-DB67-450D-AC20-B566E513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D184-1E31-4FD6-B6C2-D91A035D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0F9-06E7-4730-8580-27C9BBD8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EDAD-2582-473A-99C6-1C18BDC8E2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A181-FDBA-47BC-945C-E1D5529DA3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4360" y="476280"/>
            <a:ext cx="799308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-ordinat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79280" y="189000"/>
            <a:ext cx="878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e still use the same rule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cross first then up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>
            <a:off x="4861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61960"/>
                <a:gridCol w="600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6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48360" y="3645000"/>
            <a:ext cx="0" cy="26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57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1620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3184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478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463840" y="467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79840" y="488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87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89800" y="5516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789800" y="602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05272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789800" y="5013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2908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78980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0544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789800" y="39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81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51280" y="184464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79280" y="189000"/>
            <a:ext cx="878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x is at -2 on the horizontal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nd at 3 on the vertical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"/>
          <p:cNvSpPr/>
          <p:nvPr/>
        </p:nvSpPr>
        <p:spPr>
          <a:xfrm>
            <a:off x="4861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61960"/>
                <a:gridCol w="600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6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148360" y="3645000"/>
            <a:ext cx="0" cy="26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357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1620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03184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2478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63840" y="467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79840" y="488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87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789800" y="5516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789800" y="602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05272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789800" y="5013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62908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8980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0544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789800" y="39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781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51280" y="184464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2627280" y="1484280"/>
            <a:ext cx="36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2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276720" y="148428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132000" y="1844640"/>
            <a:ext cx="763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,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2340000" y="1484280"/>
            <a:ext cx="142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(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635280" y="1484280"/>
            <a:ext cx="19044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)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"/>
          <p:cNvSpPr/>
          <p:nvPr/>
        </p:nvSpPr>
        <p:spPr>
          <a:xfrm>
            <a:off x="4861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61960"/>
                <a:gridCol w="600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6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48360" y="3645000"/>
            <a:ext cx="0" cy="26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357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1620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03184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2478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63840" y="467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79840" y="488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87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89800" y="5516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89800" y="602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05272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89800" y="5013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62908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78980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0544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789800" y="39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81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851280" y="184464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627280" y="1484280"/>
            <a:ext cx="36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2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276720" y="148428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132000" y="1844640"/>
            <a:ext cx="763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,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340000" y="1484280"/>
            <a:ext cx="142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(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635280" y="1484280"/>
            <a:ext cx="19044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)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7308720" y="4941720"/>
            <a:ext cx="28764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68360" y="189000"/>
            <a:ext cx="83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is x is at 4 on the horizontal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nd -3 on the vertical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5796000" y="4581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443640" y="4653000"/>
            <a:ext cx="457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227640" y="5013360"/>
            <a:ext cx="144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508720" y="4508640"/>
            <a:ext cx="21564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eather"/>
              </a:rPr>
              <a:t>(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7020000" y="4508640"/>
            <a:ext cx="21600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eather"/>
              </a:rPr>
              <a:t>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eather"/>
              <a:ea typeface="Heath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"/>
          <p:cNvSpPr/>
          <p:nvPr/>
        </p:nvSpPr>
        <p:spPr>
          <a:xfrm>
            <a:off x="4861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61960"/>
                <a:gridCol w="600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26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148360" y="3645000"/>
            <a:ext cx="0" cy="26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357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81620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03184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478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463840" y="467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679840" y="488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187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89800" y="5516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789800" y="602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05272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789800" y="5013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62908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78980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0544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789800" y="39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781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51280" y="184464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627280" y="1484280"/>
            <a:ext cx="36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2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276720" y="148428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132000" y="1844640"/>
            <a:ext cx="763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,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340000" y="1484280"/>
            <a:ext cx="142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(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635280" y="1484280"/>
            <a:ext cx="19044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)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308720" y="4941720"/>
            <a:ext cx="28764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68360" y="189000"/>
            <a:ext cx="83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is x is at -5 on the horizontal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nd -2 on the vertical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796000" y="458136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443640" y="4653000"/>
            <a:ext cx="457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227640" y="5013360"/>
            <a:ext cx="144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5508720" y="4508640"/>
            <a:ext cx="21564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eather"/>
              </a:rPr>
              <a:t>(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7020000" y="4508640"/>
            <a:ext cx="21600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eather"/>
              </a:rPr>
              <a:t>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2124000" y="443700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2916360" y="4221000"/>
            <a:ext cx="380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-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564000" y="4221000"/>
            <a:ext cx="3618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-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419640" y="4724280"/>
            <a:ext cx="72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2700360" y="4221000"/>
            <a:ext cx="190440" cy="6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(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067280" y="4221000"/>
            <a:ext cx="190440" cy="6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8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"/>
          <p:cNvSpPr/>
          <p:nvPr/>
        </p:nvSpPr>
        <p:spPr>
          <a:xfrm>
            <a:off x="4861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1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61960"/>
                <a:gridCol w="600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26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148360" y="3645000"/>
            <a:ext cx="0" cy="26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57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81620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3184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2478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463840" y="467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679840" y="488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187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789800" y="5516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89800" y="602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05272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789800" y="5013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62908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78980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20544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789800" y="39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781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308720" y="1413000"/>
            <a:ext cx="287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5580000" y="242100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5580000" y="450864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276720" y="292428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124000" y="134136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276720" y="501336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7885080" y="5013360"/>
            <a:ext cx="28728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003640" y="3933720"/>
            <a:ext cx="28764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x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0" y="0"/>
            <a:ext cx="914400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at are the co-ordinat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f these points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1187280" y="404640"/>
            <a:ext cx="6840720" cy="568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Well don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95280" y="260280"/>
            <a:ext cx="842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-ordinates tell us where a point is on a gri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23880" y="1397160"/>
          <a:ext cx="4632480" cy="4119480"/>
        </p:xfrm>
        <a:graphic>
          <a:graphicData uri="http://schemas.openxmlformats.org/drawingml/2006/table">
            <a:tbl>
              <a:tblPr/>
              <a:tblGrid>
                <a:gridCol w="927360"/>
                <a:gridCol w="925200"/>
                <a:gridCol w="927360"/>
                <a:gridCol w="925560"/>
                <a:gridCol w="92700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1547640" y="5516640"/>
            <a:ext cx="49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547640" y="1267920"/>
            <a:ext cx="0" cy="424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58920" y="28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4036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5589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132000" y="2060640"/>
            <a:ext cx="43992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341360"/>
            <a:ext cx="27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 we look at how far ACROSS the grid the point is, this is on the horizontal ax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516720" y="2492280"/>
            <a:ext cx="2171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 Acros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348000" y="2276640"/>
            <a:ext cx="0" cy="3240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3429000"/>
            <a:ext cx="26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we look at how far up the point is, this is on the vertical ax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659640" y="4437000"/>
            <a:ext cx="16430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4 up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1547640" y="2205000"/>
            <a:ext cx="18720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60360" y="595008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6160" y="2205000"/>
            <a:ext cx="34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95280" y="260280"/>
            <a:ext cx="842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-ordinates tell us where a point is on a gri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523880" y="1397160"/>
          <a:ext cx="4632480" cy="4119480"/>
        </p:xfrm>
        <a:graphic>
          <a:graphicData uri="http://schemas.openxmlformats.org/drawingml/2006/table">
            <a:tbl>
              <a:tblPr/>
              <a:tblGrid>
                <a:gridCol w="927360"/>
                <a:gridCol w="925200"/>
                <a:gridCol w="927360"/>
                <a:gridCol w="925560"/>
                <a:gridCol w="92700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1547640" y="5516640"/>
            <a:ext cx="49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547640" y="1267920"/>
            <a:ext cx="0" cy="424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5892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28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200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7672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4036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03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68360" y="5589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58800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03640" y="2060640"/>
            <a:ext cx="43956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1341360"/>
            <a:ext cx="27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rite the numbers with the horizontal number firs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348000" y="2276640"/>
            <a:ext cx="0" cy="3240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47640" y="2205000"/>
            <a:ext cx="18720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77080" y="2708280"/>
            <a:ext cx="5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885080" y="2708280"/>
            <a:ext cx="5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6588000" y="422100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separate the numbers with a com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667640" y="3500280"/>
            <a:ext cx="152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5950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6160" y="2205000"/>
            <a:ext cx="34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95280" y="260280"/>
            <a:ext cx="842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-ordinates tell us where a point is on a gri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23880" y="1397160"/>
          <a:ext cx="4632480" cy="4119480"/>
        </p:xfrm>
        <a:graphic>
          <a:graphicData uri="http://schemas.openxmlformats.org/drawingml/2006/table">
            <a:tbl>
              <a:tblPr/>
              <a:tblGrid>
                <a:gridCol w="927360"/>
                <a:gridCol w="925200"/>
                <a:gridCol w="927360"/>
                <a:gridCol w="925560"/>
                <a:gridCol w="92700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1547640" y="5516640"/>
            <a:ext cx="49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547640" y="1267920"/>
            <a:ext cx="0" cy="424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8728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5892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28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5892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892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200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7672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4036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3640" y="558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5589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8800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03640" y="2060640"/>
            <a:ext cx="439560" cy="3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348000" y="2276640"/>
            <a:ext cx="0" cy="3240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47640" y="2205000"/>
            <a:ext cx="18720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77080" y="2708280"/>
            <a:ext cx="5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885080" y="2708280"/>
            <a:ext cx="5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4" name=""/>
          <p:cNvSpPr/>
          <p:nvPr/>
        </p:nvSpPr>
        <p:spPr>
          <a:xfrm>
            <a:off x="6588000" y="422100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put brackets around the co-ordin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667640" y="3500280"/>
            <a:ext cx="152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372360" y="2708280"/>
            <a:ext cx="36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(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237" name=""/>
          <p:cNvSpPr txBox="1"/>
          <p:nvPr/>
        </p:nvSpPr>
        <p:spPr>
          <a:xfrm rot="10668600">
            <a:off x="8604000" y="2707920"/>
            <a:ext cx="36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eather"/>
              </a:rPr>
              <a:t>(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eather"/>
              <a:ea typeface="Heather"/>
            </a:endParaRPr>
          </a:p>
        </p:txBody>
      </p:sp>
      <p:sp>
        <p:nvSpPr>
          <p:cNvPr id="238" name=""/>
          <p:cNvSpPr/>
          <p:nvPr/>
        </p:nvSpPr>
        <p:spPr>
          <a:xfrm>
            <a:off x="686160" y="2205000"/>
            <a:ext cx="34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71640" y="59500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1547640" y="981000"/>
          <a:ext cx="6120000" cy="521172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581040"/>
                <a:gridCol w="638280"/>
                <a:gridCol w="609480"/>
                <a:gridCol w="609480"/>
                <a:gridCol w="609840"/>
                <a:gridCol w="609480"/>
                <a:gridCol w="609480"/>
                <a:gridCol w="63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1547640" y="616572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547640" y="765000"/>
            <a:ext cx="0" cy="540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60720" y="44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53800" y="623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7888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2980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5344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7888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2908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2944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308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0544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8144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6072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07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8944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05440" y="623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60720" y="28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6072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6072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6072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60720" y="184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60720" y="23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18160" y="83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79280" y="189000"/>
            <a:ext cx="878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at are the co-ordinates of these points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203640" y="1773360"/>
            <a:ext cx="33012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227640" y="4365720"/>
            <a:ext cx="40320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556000" y="3789360"/>
            <a:ext cx="43164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403280" y="1773360"/>
            <a:ext cx="33012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04000" y="1268280"/>
            <a:ext cx="4032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427640" y="3357720"/>
            <a:ext cx="33012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51280" y="4941720"/>
            <a:ext cx="3301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451640" y="3068640"/>
            <a:ext cx="4032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788000" y="1197000"/>
            <a:ext cx="330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340000" y="4941720"/>
            <a:ext cx="3301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6160" y="2205000"/>
            <a:ext cx="34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64000" y="64911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179280" y="189000"/>
            <a:ext cx="878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o far we have looked at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-ordinates in one quadran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6108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179280" y="189000"/>
            <a:ext cx="878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e can also have co-ordinat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 more than one quadran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486108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81040"/>
                <a:gridCol w="5810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79280" y="189000"/>
            <a:ext cx="878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e have to extend our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o fit the extra quadran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486108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81040"/>
                <a:gridCol w="5810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48360" y="3645000"/>
            <a:ext cx="0" cy="26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179280" y="189000"/>
            <a:ext cx="878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e now have to number our ax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ecause they go past 0 they are negative numbe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148360" y="105264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"/>
          <p:cNvSpPr/>
          <p:nvPr/>
        </p:nvSpPr>
        <p:spPr>
          <a:xfrm>
            <a:off x="48610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86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73452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58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8180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610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86108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610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6108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6108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2268360" y="1052640"/>
          <a:ext cx="2903760" cy="259236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65200"/>
                <a:gridCol w="5954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148360" y="3645000"/>
          <a:ext cx="2903400" cy="25873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240"/>
                <a:gridCol w="581040"/>
                <a:gridCol w="5810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2268360" y="3645000"/>
          <a:ext cx="2903760" cy="257472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79600"/>
                <a:gridCol w="561960"/>
                <a:gridCol w="6001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223f3"/>
                      </a:solidFill>
                    </a:lnL>
                    <a:lnR w="5760">
                      <a:solidFill>
                        <a:srgbClr val="3223f3"/>
                      </a:solidFill>
                    </a:lnR>
                    <a:lnT w="5760">
                      <a:solidFill>
                        <a:srgbClr val="3223f3"/>
                      </a:solidFill>
                    </a:lnT>
                    <a:lnB w="5760">
                      <a:solidFill>
                        <a:srgbClr val="3223f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"/>
          <p:cNvSpPr/>
          <p:nvPr/>
        </p:nvSpPr>
        <p:spPr>
          <a:xfrm>
            <a:off x="514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148360" y="907560"/>
            <a:ext cx="0" cy="273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68360" y="3645000"/>
            <a:ext cx="3095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48360" y="3645000"/>
            <a:ext cx="0" cy="26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57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1620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03184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4784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463840" y="467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679840" y="4888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18728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789800" y="5516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89800" y="6021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05272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89800" y="5013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2908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89800" y="4508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0544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89800" y="39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818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7:34:34Z</dcterms:created>
  <dc:creator>JSmithies</dc:creator>
  <dc:description/>
  <dc:language>en-US</dc:language>
  <cp:lastModifiedBy>Home</cp:lastModifiedBy>
  <dcterms:modified xsi:type="dcterms:W3CDTF">2002-11-24T16:32:58Z</dcterms:modified>
  <cp:revision>7</cp:revision>
  <dc:subject/>
  <dc:title>Slide 1</dc:title>
</cp:coreProperties>
</file>