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13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C66-ED2D-4EE8-920E-2524A279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379-BADD-49CE-B286-DFE7C76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681-EC99-48F1-9BB7-C36D04B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33A-748F-43F6-A1B6-97E180F4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C620-40E3-40F8-9131-B1D3761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033D-0E87-467F-82BF-90440A7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18E1-C1C7-4DED-8E5F-FB53FAB7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494E-7AF8-4523-BE66-5725FD7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36E-2FDD-4628-84B9-A00C4604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7CE6-1219-4377-A33A-F6EF27B1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C47A-EAD7-44EA-B59A-01F66799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570-7882-4DA2-99B6-1EC6E99D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9E0-2B38-40CC-888B-86863733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98CF-4698-4D69-8E8C-282ABE43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D739-1D1D-4DC9-AEA2-C42CCE1A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3E3D-D612-412B-9419-1A48BBCF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64B-27A5-42D4-A58D-B83D95F0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150-2E35-489D-8239-55B6F4C6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257-3351-48CC-9A1E-D742146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C7A-C29B-45F7-8D26-C98DB31F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D997-0B88-45A8-B8C8-1C50C3C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FAA0-F0BC-435D-AE1D-6817250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AA2-DECA-47CA-B370-922E8276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B84-DA76-4849-82EB-CF0FDDE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3CD8-8B76-4124-A17B-897930D60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24C5-98E1-4411-AB9F-62693A1EF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human%20use%20house" descr=""/>
          <p:cNvPicPr/>
          <p:nvPr/>
        </p:nvPicPr>
        <p:blipFill>
          <a:blip r:embed="rId2"/>
          <a:srcRect l="36132" t="17049" r="-354" b="18733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528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8120" y="4419720"/>
            <a:ext cx="3504960" cy="2209320"/>
            <a:chOff x="3048120" y="4419720"/>
            <a:chExt cx="3504960" cy="2209320"/>
          </a:xfrm>
        </p:grpSpPr>
        <p:sp>
          <p:nvSpPr>
            <p:cNvPr id="150" name=""/>
            <p:cNvSpPr/>
            <p:nvPr/>
          </p:nvSpPr>
          <p:spPr>
            <a:xfrm>
              <a:off x="3048120" y="441972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dimentary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" name="sediment%20rock" descr=""/>
            <p:cNvPicPr/>
            <p:nvPr/>
          </p:nvPicPr>
          <p:blipFill>
            <a:blip r:embed="rId2"/>
            <a:stretch/>
          </p:blipFill>
          <p:spPr>
            <a:xfrm>
              <a:off x="3352680" y="5034600"/>
              <a:ext cx="2666520" cy="159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181480" y="1447920"/>
            <a:ext cx="3276360" cy="2971800"/>
            <a:chOff x="5181480" y="1447920"/>
            <a:chExt cx="3276360" cy="2971800"/>
          </a:xfrm>
        </p:grpSpPr>
        <p:sp>
          <p:nvSpPr>
            <p:cNvPr id="153" name=""/>
            <p:cNvSpPr/>
            <p:nvPr/>
          </p:nvSpPr>
          <p:spPr>
            <a:xfrm>
              <a:off x="5181480" y="14479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etamorphic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" name="human%20use%2012" descr=""/>
            <p:cNvPicPr/>
            <p:nvPr/>
          </p:nvPicPr>
          <p:blipFill>
            <a:blip r:embed="rId3"/>
            <a:stretch/>
          </p:blipFill>
          <p:spPr>
            <a:xfrm>
              <a:off x="5638680" y="213372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838080" y="1523880"/>
            <a:ext cx="4572000" cy="2762280"/>
            <a:chOff x="838080" y="1523880"/>
            <a:chExt cx="4572000" cy="2762280"/>
          </a:xfrm>
        </p:grpSpPr>
        <p:sp>
          <p:nvSpPr>
            <p:cNvPr id="156" name=""/>
            <p:cNvSpPr/>
            <p:nvPr/>
          </p:nvSpPr>
          <p:spPr>
            <a:xfrm>
              <a:off x="1219320" y="1523880"/>
              <a:ext cx="41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gneous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7" name="" descr="">
              <a:hlinkClick r:id="" action="ppaction://media"/>
            </p:cNvPr>
            <p:cNvPicPr/>
            <p:nvPr>
              <a:audioFile r:link="rId4"/>
              <p:extLst>
                <p:ext uri="{DAA4B4D4-6D71-4841-9C94-3DE7FCFB9230}">
                  <p14:media r:link="rId5"/>
                </p:ext>
              </p:extLst>
            </p:nvPr>
          </p:nvPicPr>
          <p:blipFill>
            <a:blip r:embed="rId6"/>
            <a:stretch>
              <a:fillRect/>
            </a:stretch>
          </p:blipFill>
          <p:spPr>
            <a:xfrm>
              <a:off x="838080" y="2057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248520" y="419112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61722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05320" y="25909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</a:rPr>
              <a:t>Roc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Sedimentary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ow They are Mad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449568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and water break down th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earth settle in lakes and ri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s are formed and build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and time turn the layers to r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sedianim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9588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Sedimentary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8080" y="3200400"/>
            <a:ext cx="4343400" cy="2057400"/>
            <a:chOff x="838080" y="3200400"/>
            <a:chExt cx="4343400" cy="2057400"/>
          </a:xfrm>
        </p:grpSpPr>
        <p:sp>
          <p:nvSpPr>
            <p:cNvPr id="163" name=""/>
            <p:cNvSpPr/>
            <p:nvPr/>
          </p:nvSpPr>
          <p:spPr>
            <a:xfrm>
              <a:off x="1066680" y="32004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ypsu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gypsum" descr=""/>
            <p:cNvPicPr/>
            <p:nvPr/>
          </p:nvPicPr>
          <p:blipFill>
            <a:blip r:embed="rId2"/>
            <a:stretch/>
          </p:blipFill>
          <p:spPr>
            <a:xfrm>
              <a:off x="838080" y="3733920"/>
              <a:ext cx="203220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905120" y="990720"/>
            <a:ext cx="3352320" cy="1981080"/>
            <a:chOff x="1905120" y="990720"/>
            <a:chExt cx="3352320" cy="1981080"/>
          </a:xfrm>
        </p:grpSpPr>
        <p:sp>
          <p:nvSpPr>
            <p:cNvPr id="166" name=""/>
            <p:cNvSpPr/>
            <p:nvPr/>
          </p:nvSpPr>
          <p:spPr>
            <a:xfrm>
              <a:off x="2209680" y="99072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sandstn" descr=""/>
            <p:cNvPicPr/>
            <p:nvPr/>
          </p:nvPicPr>
          <p:blipFill>
            <a:blip r:embed="rId3"/>
            <a:stretch/>
          </p:blipFill>
          <p:spPr>
            <a:xfrm>
              <a:off x="1905120" y="144792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429000" y="4876920"/>
            <a:ext cx="3124080" cy="1981080"/>
            <a:chOff x="3429000" y="4876920"/>
            <a:chExt cx="3124080" cy="1981080"/>
          </a:xfrm>
        </p:grpSpPr>
        <p:sp>
          <p:nvSpPr>
            <p:cNvPr id="169" name=""/>
            <p:cNvSpPr/>
            <p:nvPr/>
          </p:nvSpPr>
          <p:spPr>
            <a:xfrm>
              <a:off x="3886200" y="4876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ha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" name="shale" descr=""/>
            <p:cNvPicPr/>
            <p:nvPr/>
          </p:nvPicPr>
          <p:blipFill>
            <a:blip r:embed="rId4"/>
            <a:stretch/>
          </p:blipFill>
          <p:spPr>
            <a:xfrm>
              <a:off x="3429000" y="533412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5029200" y="990720"/>
            <a:ext cx="2819520" cy="1981080"/>
            <a:chOff x="5029200" y="990720"/>
            <a:chExt cx="2819520" cy="1981080"/>
          </a:xfrm>
        </p:grpSpPr>
        <p:sp>
          <p:nvSpPr>
            <p:cNvPr id="172" name=""/>
            <p:cNvSpPr/>
            <p:nvPr/>
          </p:nvSpPr>
          <p:spPr>
            <a:xfrm>
              <a:off x="5257800" y="9907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est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" name="limeston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203220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6095880" y="3276720"/>
            <a:ext cx="3048120" cy="2057400"/>
            <a:chOff x="6095880" y="3276720"/>
            <a:chExt cx="3048120" cy="2057400"/>
          </a:xfrm>
        </p:grpSpPr>
        <p:sp>
          <p:nvSpPr>
            <p:cNvPr id="175" name=""/>
            <p:cNvSpPr/>
            <p:nvPr/>
          </p:nvSpPr>
          <p:spPr>
            <a:xfrm>
              <a:off x="6095880" y="32767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glomera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conglo" descr=""/>
            <p:cNvPicPr/>
            <p:nvPr/>
          </p:nvPicPr>
          <p:blipFill>
            <a:blip r:embed="rId6"/>
            <a:stretch/>
          </p:blipFill>
          <p:spPr>
            <a:xfrm>
              <a:off x="6172200" y="381024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Metamorphic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re They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ks that hav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were once igneous or sedime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and heat changed the rock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etaanim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759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Metamorphic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80880" y="2286000"/>
            <a:ext cx="4800600" cy="3409920"/>
            <a:chOff x="380880" y="2286000"/>
            <a:chExt cx="4800600" cy="3409920"/>
          </a:xfrm>
        </p:grpSpPr>
        <p:sp>
          <p:nvSpPr>
            <p:cNvPr id="182" name=""/>
            <p:cNvSpPr/>
            <p:nvPr/>
          </p:nvSpPr>
          <p:spPr>
            <a:xfrm>
              <a:off x="1371600" y="228600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chi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" name="schist" descr=""/>
            <p:cNvPicPr/>
            <p:nvPr/>
          </p:nvPicPr>
          <p:blipFill>
            <a:blip r:embed="rId2"/>
            <a:stretch/>
          </p:blipFill>
          <p:spPr>
            <a:xfrm>
              <a:off x="380880" y="3124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5105520" y="2286000"/>
            <a:ext cx="4038480" cy="3409920"/>
            <a:chOff x="5105520" y="2286000"/>
            <a:chExt cx="4038480" cy="3409920"/>
          </a:xfrm>
        </p:grpSpPr>
        <p:sp>
          <p:nvSpPr>
            <p:cNvPr id="185" name=""/>
            <p:cNvSpPr/>
            <p:nvPr/>
          </p:nvSpPr>
          <p:spPr>
            <a:xfrm>
              <a:off x="6019920" y="22860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Gneis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gneiss" descr=""/>
            <p:cNvPicPr/>
            <p:nvPr/>
          </p:nvPicPr>
          <p:blipFill>
            <a:blip r:embed="rId3"/>
            <a:stretch/>
          </p:blipFill>
          <p:spPr>
            <a:xfrm>
              <a:off x="5105520" y="3124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Igneous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re They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underground by trapped, cooled mag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above ground when volcanoes erupt and magma c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ignanim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8954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Igneous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600200"/>
            <a:ext cx="3886200" cy="2457000"/>
            <a:chOff x="1066680" y="1600200"/>
            <a:chExt cx="3886200" cy="2457000"/>
          </a:xfrm>
        </p:grpSpPr>
        <p:sp>
          <p:nvSpPr>
            <p:cNvPr id="192" name=""/>
            <p:cNvSpPr/>
            <p:nvPr/>
          </p:nvSpPr>
          <p:spPr>
            <a:xfrm>
              <a:off x="1752480" y="1600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rani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granite" descr=""/>
            <p:cNvPicPr/>
            <p:nvPr/>
          </p:nvPicPr>
          <p:blipFill>
            <a:blip r:embed="rId2"/>
            <a:stretch/>
          </p:blipFill>
          <p:spPr>
            <a:xfrm>
              <a:off x="1066680" y="2133360"/>
              <a:ext cx="2565360" cy="19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410080" y="1523880"/>
            <a:ext cx="3733560" cy="2533680"/>
            <a:chOff x="5410080" y="1523880"/>
            <a:chExt cx="3733560" cy="2533680"/>
          </a:xfrm>
        </p:grpSpPr>
        <p:sp>
          <p:nvSpPr>
            <p:cNvPr id="195" name=""/>
            <p:cNvSpPr/>
            <p:nvPr/>
          </p:nvSpPr>
          <p:spPr>
            <a:xfrm>
              <a:off x="6019560" y="15238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o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scoria" descr=""/>
            <p:cNvPicPr/>
            <p:nvPr/>
          </p:nvPicPr>
          <p:blipFill>
            <a:blip r:embed="rId3"/>
            <a:stretch/>
          </p:blipFill>
          <p:spPr>
            <a:xfrm>
              <a:off x="5410080" y="2133360"/>
              <a:ext cx="256536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1066680" y="4343400"/>
            <a:ext cx="3886200" cy="2514600"/>
            <a:chOff x="1066680" y="4343400"/>
            <a:chExt cx="3886200" cy="2514600"/>
          </a:xfrm>
        </p:grpSpPr>
        <p:sp>
          <p:nvSpPr>
            <p:cNvPr id="198" name=""/>
            <p:cNvSpPr/>
            <p:nvPr/>
          </p:nvSpPr>
          <p:spPr>
            <a:xfrm>
              <a:off x="1752480" y="43434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um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9" name="pumice" descr=""/>
            <p:cNvPicPr/>
            <p:nvPr/>
          </p:nvPicPr>
          <p:blipFill>
            <a:blip r:embed="rId4"/>
            <a:stretch/>
          </p:blipFill>
          <p:spPr>
            <a:xfrm>
              <a:off x="1066680" y="4933800"/>
              <a:ext cx="256536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486400" y="4381560"/>
            <a:ext cx="3352680" cy="2476440"/>
            <a:chOff x="5486400" y="4381560"/>
            <a:chExt cx="3352680" cy="2476440"/>
          </a:xfrm>
        </p:grpSpPr>
        <p:sp>
          <p:nvSpPr>
            <p:cNvPr id="201" name=""/>
            <p:cNvSpPr/>
            <p:nvPr/>
          </p:nvSpPr>
          <p:spPr>
            <a:xfrm>
              <a:off x="6095880" y="4381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bsidia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2" name="obsid" descr=""/>
            <p:cNvPicPr/>
            <p:nvPr/>
          </p:nvPicPr>
          <p:blipFill>
            <a:blip r:embed="rId5"/>
            <a:stretch/>
          </p:blipFill>
          <p:spPr>
            <a:xfrm>
              <a:off x="5486400" y="4991040"/>
              <a:ext cx="248904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Rocks Have Been Used For Many Years 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For Many Thing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42:10Z</dcterms:created>
  <dc:creator>Instructional</dc:creator>
  <dc:description/>
  <dc:language>en-US</dc:language>
  <cp:lastModifiedBy>Inst</cp:lastModifiedBy>
  <dcterms:modified xsi:type="dcterms:W3CDTF">2001-11-29T00:06:29Z</dcterms:modified>
  <cp:revision>15</cp:revision>
  <dc:subject/>
  <dc:title>Rocks</dc:title>
</cp:coreProperties>
</file>