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1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image34.png" ContentType="image/png"/>
  <Override PartName="/ppt/media/image12.jpeg" ContentType="image/jpeg"/>
  <Override PartName="/ppt/media/image6.png" ContentType="image/png"/>
  <Override PartName="/ppt/media/image13.gif" ContentType="image/gi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5BE-E58E-415C-A419-4C7567CA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F6B-7F2F-4190-A3CF-E6907E93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F29-C502-4067-8D56-52959DF3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1F0-6E42-4A67-B623-10B996FA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542F-0AA2-4912-90C3-6424903A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91EB-3ACF-41F3-AC82-6018CB03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62E2-A5EF-4635-8A30-17B8A16F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B4CA-7CFA-479C-8937-B9D13DD4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20A4-9365-4B23-A5DC-65984FB6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A275-36FD-4594-A2E7-AA604355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2F15-A266-49B9-B0E9-57B1909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5ED-F6B3-4792-A1EC-6FB87580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8239-BAA2-4CB6-AE29-8464EE4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3EE8-64D8-4E38-8878-80B0BBED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56AE-6AA5-43AF-A0BC-2B08D413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DCAF-CDE5-4B30-9575-0D47DFED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9527-2C5A-457E-B51E-40BADDBF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41E-A573-4F2B-AE70-7C192EA4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107-FDAB-4B54-844B-A2D15AF0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C73-90FE-4965-986A-1C15FD60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97D-6163-462D-B2D3-0633FE8F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9FD-9B7A-4A11-BD46-01BB6BE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39F-F91B-4A9B-9FD7-9A16E427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094-0D7B-4C9F-8DAD-1A9274E3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80A4-1F41-4E87-B36A-8B61C9C3F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1008-F7F3-45F8-ACFA-B591ED8BE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file:///tmp/home/.config/libreoffice/4/user/gallery/drumroll.wav" TargetMode="External"/><Relationship Id="rId5" Type="http://schemas.microsoft.com/office/2007/relationships/media" Target="file:///tmp/home/.config/libreoffice/4/user/gallery/drumroll.wav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Rocks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0" y="2057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human%20use%20house" descr=""/>
          <p:cNvPicPr/>
          <p:nvPr/>
        </p:nvPicPr>
        <p:blipFill>
          <a:blip r:embed="rId2"/>
          <a:srcRect l="36132" t="17049" r="-354" b="18733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29528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Types of R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8120" y="4419720"/>
            <a:ext cx="3504960" cy="2209320"/>
            <a:chOff x="3048120" y="4419720"/>
            <a:chExt cx="3504960" cy="2209320"/>
          </a:xfrm>
        </p:grpSpPr>
        <p:sp>
          <p:nvSpPr>
            <p:cNvPr id="150" name=""/>
            <p:cNvSpPr/>
            <p:nvPr/>
          </p:nvSpPr>
          <p:spPr>
            <a:xfrm>
              <a:off x="3048120" y="441972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edimentary Roc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" name="sediment%20rock" descr=""/>
            <p:cNvPicPr/>
            <p:nvPr/>
          </p:nvPicPr>
          <p:blipFill>
            <a:blip r:embed="rId2"/>
            <a:stretch/>
          </p:blipFill>
          <p:spPr>
            <a:xfrm>
              <a:off x="3352680" y="5034600"/>
              <a:ext cx="2666520" cy="159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181480" y="1447920"/>
            <a:ext cx="3276360" cy="2971800"/>
            <a:chOff x="5181480" y="1447920"/>
            <a:chExt cx="3276360" cy="2971800"/>
          </a:xfrm>
        </p:grpSpPr>
        <p:sp>
          <p:nvSpPr>
            <p:cNvPr id="153" name=""/>
            <p:cNvSpPr/>
            <p:nvPr/>
          </p:nvSpPr>
          <p:spPr>
            <a:xfrm>
              <a:off x="5181480" y="1447920"/>
              <a:ext cx="32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etamorphic Roc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4" name="human%20use%2012" descr=""/>
            <p:cNvPicPr/>
            <p:nvPr/>
          </p:nvPicPr>
          <p:blipFill>
            <a:blip r:embed="rId3"/>
            <a:stretch/>
          </p:blipFill>
          <p:spPr>
            <a:xfrm>
              <a:off x="5638680" y="213372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838080" y="1523880"/>
            <a:ext cx="4572000" cy="2762280"/>
            <a:chOff x="838080" y="1523880"/>
            <a:chExt cx="4572000" cy="2762280"/>
          </a:xfrm>
        </p:grpSpPr>
        <p:sp>
          <p:nvSpPr>
            <p:cNvPr id="156" name=""/>
            <p:cNvSpPr/>
            <p:nvPr/>
          </p:nvSpPr>
          <p:spPr>
            <a:xfrm>
              <a:off x="1219320" y="1523880"/>
              <a:ext cx="419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gneous Rock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7" name="" descr="">
              <a:hlinkClick r:id="" action="ppaction://media"/>
            </p:cNvPr>
            <p:cNvPicPr/>
            <p:nvPr>
              <a:audioFile r:link="rId4"/>
              <p:extLst>
                <p:ext uri="{DAA4B4D4-6D71-4841-9C94-3DE7FCFB9230}">
                  <p14:media r:link="rId5"/>
                </p:ext>
              </p:extLst>
            </p:nvPr>
          </p:nvPicPr>
          <p:blipFill>
            <a:blip r:embed="rId6"/>
            <a:stretch>
              <a:fillRect/>
            </a:stretch>
          </p:blipFill>
          <p:spPr>
            <a:xfrm>
              <a:off x="838080" y="2057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248520" y="4191120"/>
            <a:ext cx="1295280" cy="380880"/>
          </a:xfrm>
          <a:prstGeom prst="leftArrow">
            <a:avLst>
              <a:gd name="adj1" fmla="val 50000"/>
              <a:gd name="adj2" fmla="val 85019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61722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505320" y="25909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Times New Roman"/>
              </a:rPr>
              <a:t>Rock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Sedimentary Rocks</a:t>
            </a:r>
            <a:br>
              <a:rPr sz="4400"/>
            </a:b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How They are Mad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449568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and water break down th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 of earth settle in lakes and ri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s are formed and build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ure and time turn the layers to r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sedianim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295884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Types of Sedimentary R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38080" y="3200400"/>
            <a:ext cx="4343400" cy="2057400"/>
            <a:chOff x="838080" y="3200400"/>
            <a:chExt cx="4343400" cy="2057400"/>
          </a:xfrm>
        </p:grpSpPr>
        <p:sp>
          <p:nvSpPr>
            <p:cNvPr id="163" name=""/>
            <p:cNvSpPr/>
            <p:nvPr/>
          </p:nvSpPr>
          <p:spPr>
            <a:xfrm>
              <a:off x="1066680" y="32004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ypsu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" name="gypsum" descr=""/>
            <p:cNvPicPr/>
            <p:nvPr/>
          </p:nvPicPr>
          <p:blipFill>
            <a:blip r:embed="rId2"/>
            <a:stretch/>
          </p:blipFill>
          <p:spPr>
            <a:xfrm>
              <a:off x="838080" y="3733920"/>
              <a:ext cx="203220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905120" y="990720"/>
            <a:ext cx="3352320" cy="1981080"/>
            <a:chOff x="1905120" y="990720"/>
            <a:chExt cx="3352320" cy="1981080"/>
          </a:xfrm>
        </p:grpSpPr>
        <p:sp>
          <p:nvSpPr>
            <p:cNvPr id="166" name=""/>
            <p:cNvSpPr/>
            <p:nvPr/>
          </p:nvSpPr>
          <p:spPr>
            <a:xfrm>
              <a:off x="2209680" y="990720"/>
              <a:ext cx="304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andsto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7" name="sandstn" descr=""/>
            <p:cNvPicPr/>
            <p:nvPr/>
          </p:nvPicPr>
          <p:blipFill>
            <a:blip r:embed="rId3"/>
            <a:stretch/>
          </p:blipFill>
          <p:spPr>
            <a:xfrm>
              <a:off x="1905120" y="1447920"/>
              <a:ext cx="203184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3429000" y="4876920"/>
            <a:ext cx="3124080" cy="1981080"/>
            <a:chOff x="3429000" y="4876920"/>
            <a:chExt cx="3124080" cy="1981080"/>
          </a:xfrm>
        </p:grpSpPr>
        <p:sp>
          <p:nvSpPr>
            <p:cNvPr id="169" name=""/>
            <p:cNvSpPr/>
            <p:nvPr/>
          </p:nvSpPr>
          <p:spPr>
            <a:xfrm>
              <a:off x="3886200" y="4876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ha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" name="shale" descr=""/>
            <p:cNvPicPr/>
            <p:nvPr/>
          </p:nvPicPr>
          <p:blipFill>
            <a:blip r:embed="rId4"/>
            <a:stretch/>
          </p:blipFill>
          <p:spPr>
            <a:xfrm>
              <a:off x="3429000" y="5334120"/>
              <a:ext cx="203184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5029200" y="990720"/>
            <a:ext cx="2819520" cy="1981080"/>
            <a:chOff x="5029200" y="990720"/>
            <a:chExt cx="2819520" cy="1981080"/>
          </a:xfrm>
        </p:grpSpPr>
        <p:sp>
          <p:nvSpPr>
            <p:cNvPr id="172" name=""/>
            <p:cNvSpPr/>
            <p:nvPr/>
          </p:nvSpPr>
          <p:spPr>
            <a:xfrm>
              <a:off x="5257800" y="99072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meston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" name="limeston" descr=""/>
            <p:cNvPicPr/>
            <p:nvPr/>
          </p:nvPicPr>
          <p:blipFill>
            <a:blip r:embed="rId5"/>
            <a:stretch/>
          </p:blipFill>
          <p:spPr>
            <a:xfrm>
              <a:off x="5029200" y="1447920"/>
              <a:ext cx="2032200" cy="15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6095880" y="3276720"/>
            <a:ext cx="3048120" cy="2057400"/>
            <a:chOff x="6095880" y="3276720"/>
            <a:chExt cx="3048120" cy="2057400"/>
          </a:xfrm>
        </p:grpSpPr>
        <p:sp>
          <p:nvSpPr>
            <p:cNvPr id="175" name=""/>
            <p:cNvSpPr/>
            <p:nvPr/>
          </p:nvSpPr>
          <p:spPr>
            <a:xfrm>
              <a:off x="6095880" y="32767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glomera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6" name="conglo" descr=""/>
            <p:cNvPicPr/>
            <p:nvPr/>
          </p:nvPicPr>
          <p:blipFill>
            <a:blip r:embed="rId6"/>
            <a:stretch/>
          </p:blipFill>
          <p:spPr>
            <a:xfrm>
              <a:off x="6172200" y="3810240"/>
              <a:ext cx="203184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Metamorphic Rocks</a:t>
            </a:r>
            <a:br>
              <a:rPr sz="4400"/>
            </a:b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hat are They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457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ks that have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were once igneous or sedimen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 and heat changed the rock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metaanim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27590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Types of Metamorphic R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80880" y="2286000"/>
            <a:ext cx="4800600" cy="3409920"/>
            <a:chOff x="380880" y="2286000"/>
            <a:chExt cx="4800600" cy="3409920"/>
          </a:xfrm>
        </p:grpSpPr>
        <p:sp>
          <p:nvSpPr>
            <p:cNvPr id="182" name=""/>
            <p:cNvSpPr/>
            <p:nvPr/>
          </p:nvSpPr>
          <p:spPr>
            <a:xfrm>
              <a:off x="1371600" y="228600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Schis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3" name="schist" descr=""/>
            <p:cNvPicPr/>
            <p:nvPr/>
          </p:nvPicPr>
          <p:blipFill>
            <a:blip r:embed="rId2"/>
            <a:stretch/>
          </p:blipFill>
          <p:spPr>
            <a:xfrm>
              <a:off x="380880" y="3124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5105520" y="2286000"/>
            <a:ext cx="4038480" cy="3409920"/>
            <a:chOff x="5105520" y="2286000"/>
            <a:chExt cx="4038480" cy="3409920"/>
          </a:xfrm>
        </p:grpSpPr>
        <p:sp>
          <p:nvSpPr>
            <p:cNvPr id="185" name=""/>
            <p:cNvSpPr/>
            <p:nvPr/>
          </p:nvSpPr>
          <p:spPr>
            <a:xfrm>
              <a:off x="6019920" y="2286000"/>
              <a:ext cx="312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Gneis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" name="gneiss" descr=""/>
            <p:cNvPicPr/>
            <p:nvPr/>
          </p:nvPicPr>
          <p:blipFill>
            <a:blip r:embed="rId3"/>
            <a:stretch/>
          </p:blipFill>
          <p:spPr>
            <a:xfrm>
              <a:off x="5105520" y="3124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Igneous Rocks</a:t>
            </a:r>
            <a:br>
              <a:rPr sz="4400"/>
            </a:b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hat are They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R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underground by trapped, cooled mag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above ground when volcanoes erupt and magma c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ignanim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28954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Types of Igneous R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066680" y="1600200"/>
            <a:ext cx="3886200" cy="2457000"/>
            <a:chOff x="1066680" y="1600200"/>
            <a:chExt cx="3886200" cy="2457000"/>
          </a:xfrm>
        </p:grpSpPr>
        <p:sp>
          <p:nvSpPr>
            <p:cNvPr id="192" name=""/>
            <p:cNvSpPr/>
            <p:nvPr/>
          </p:nvSpPr>
          <p:spPr>
            <a:xfrm>
              <a:off x="1752480" y="1600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ranit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3" name="granite" descr=""/>
            <p:cNvPicPr/>
            <p:nvPr/>
          </p:nvPicPr>
          <p:blipFill>
            <a:blip r:embed="rId2"/>
            <a:stretch/>
          </p:blipFill>
          <p:spPr>
            <a:xfrm>
              <a:off x="1066680" y="2133360"/>
              <a:ext cx="2565360" cy="192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5410080" y="1523880"/>
            <a:ext cx="3733560" cy="2533680"/>
            <a:chOff x="5410080" y="1523880"/>
            <a:chExt cx="3733560" cy="2533680"/>
          </a:xfrm>
        </p:grpSpPr>
        <p:sp>
          <p:nvSpPr>
            <p:cNvPr id="195" name=""/>
            <p:cNvSpPr/>
            <p:nvPr/>
          </p:nvSpPr>
          <p:spPr>
            <a:xfrm>
              <a:off x="6019560" y="152388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cor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6" name="scoria" descr=""/>
            <p:cNvPicPr/>
            <p:nvPr/>
          </p:nvPicPr>
          <p:blipFill>
            <a:blip r:embed="rId3"/>
            <a:stretch/>
          </p:blipFill>
          <p:spPr>
            <a:xfrm>
              <a:off x="5410080" y="2133360"/>
              <a:ext cx="2565360" cy="192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1066680" y="4343400"/>
            <a:ext cx="3886200" cy="2514600"/>
            <a:chOff x="1066680" y="4343400"/>
            <a:chExt cx="3886200" cy="2514600"/>
          </a:xfrm>
        </p:grpSpPr>
        <p:sp>
          <p:nvSpPr>
            <p:cNvPr id="198" name=""/>
            <p:cNvSpPr/>
            <p:nvPr/>
          </p:nvSpPr>
          <p:spPr>
            <a:xfrm>
              <a:off x="1752480" y="43434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um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9" name="pumice" descr=""/>
            <p:cNvPicPr/>
            <p:nvPr/>
          </p:nvPicPr>
          <p:blipFill>
            <a:blip r:embed="rId4"/>
            <a:stretch/>
          </p:blipFill>
          <p:spPr>
            <a:xfrm>
              <a:off x="1066680" y="4933800"/>
              <a:ext cx="2565360" cy="192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5486400" y="4381560"/>
            <a:ext cx="3352680" cy="2476440"/>
            <a:chOff x="5486400" y="4381560"/>
            <a:chExt cx="3352680" cy="2476440"/>
          </a:xfrm>
        </p:grpSpPr>
        <p:sp>
          <p:nvSpPr>
            <p:cNvPr id="201" name=""/>
            <p:cNvSpPr/>
            <p:nvPr/>
          </p:nvSpPr>
          <p:spPr>
            <a:xfrm>
              <a:off x="6095880" y="438156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bsidia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2" name="obsid" descr=""/>
            <p:cNvPicPr/>
            <p:nvPr/>
          </p:nvPicPr>
          <p:blipFill>
            <a:blip r:embed="rId5"/>
            <a:stretch/>
          </p:blipFill>
          <p:spPr>
            <a:xfrm>
              <a:off x="5486400" y="4991040"/>
              <a:ext cx="2489040" cy="18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Rocks Have Been Used For Many Years 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For Many Thing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7:42:10Z</dcterms:created>
  <dc:creator>Instructional</dc:creator>
  <dc:description/>
  <dc:language>en-US</dc:language>
  <cp:lastModifiedBy>Inst</cp:lastModifiedBy>
  <dcterms:modified xsi:type="dcterms:W3CDTF">2001-11-29T00:06:29Z</dcterms:modified>
  <cp:revision>15</cp:revision>
  <dc:subject/>
  <dc:title>Rocks</dc:title>
</cp:coreProperties>
</file>